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60D-9BC7-4064-93AA-92274F71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46000" y="4291560"/>
            <a:ext cx="74916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BB5-8467-41A4-A5C5-B3A63462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36558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040" y="2219400"/>
            <a:ext cx="36558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6000" y="4291560"/>
            <a:ext cx="36558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040" y="4291560"/>
            <a:ext cx="36558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73D5-5905-4A36-B4B4-223CFCC8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24120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78960" y="2219400"/>
            <a:ext cx="24120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1920" y="2219400"/>
            <a:ext cx="24120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46000" y="4291560"/>
            <a:ext cx="24120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78960" y="4291560"/>
            <a:ext cx="24120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1920" y="4291560"/>
            <a:ext cx="24120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D91-5E73-4AE7-AA6A-38A82073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5C5-5372-4391-AE83-B1E36086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76E-045A-4AF4-8EAC-3A3D0DD6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36558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040" y="2219400"/>
            <a:ext cx="36558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F09-10E5-4C6F-AE98-C488192E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A79-8C33-47BE-A610-51354D4B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753-19E5-4D3A-BF66-1E162A06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36558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2219400"/>
            <a:ext cx="36558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46000" y="4291560"/>
            <a:ext cx="36558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14A-E87A-4CBF-BEC9-8789B89A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36558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2219400"/>
            <a:ext cx="36558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040" y="4291560"/>
            <a:ext cx="36558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6740-C81C-4C13-A58A-A8FCE1A8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36558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040" y="2219400"/>
            <a:ext cx="36558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46000" y="4291560"/>
            <a:ext cx="7491600" cy="18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356-4944-4E2E-9BDE-2579381A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0881-E488-4CC4-96B4-CC7440680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26720" y="6291360"/>
            <a:ext cx="1096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:   </a:t>
            </a:r>
            <a:fld id="{2BBF1ED0-EB5D-417B-8157-35BD2759A9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22440" y="6283440"/>
            <a:ext cx="44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K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87360" y="195120"/>
          <a:ext cx="1531800" cy="144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360" y="195120"/>
                    <a:ext cx="153180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606600" y="1582560"/>
            <a:ext cx="1090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MS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2583000" y="1440000"/>
            <a:ext cx="3968640" cy="4927320"/>
            <a:chOff x="2583000" y="1440000"/>
            <a:chExt cx="3968640" cy="4927320"/>
          </a:xfrm>
        </p:grpSpPr>
        <p:graphicFrame>
          <p:nvGraphicFramePr>
            <p:cNvPr id="47" name=""/>
            <p:cNvGraphicFramePr/>
            <p:nvPr/>
          </p:nvGraphicFramePr>
          <p:xfrm>
            <a:off x="2583000" y="1440000"/>
            <a:ext cx="3968640" cy="3713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83000" y="1440000"/>
                      <a:ext cx="3968640" cy="371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>
              <a:off x="2792880" y="5208480"/>
              <a:ext cx="36734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Arial"/>
                </a:rPr>
                <a:t>AMSAT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adio Amateur Satellite Corpo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6354360" y="441360"/>
            <a:ext cx="26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Steve Park WB9O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AMSAT Area Coord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w do I get there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you have to work with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 A equipment: omnis, 10M Rx and 2M Tx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ndheld 2 meter ri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S10/11, RS12/13, RS15, DOVE, AO2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73160" y="5187960"/>
            <a:ext cx="12063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14040" y="3809520"/>
            <a:ext cx="1676520" cy="2440440"/>
            <a:chOff x="914040" y="3809520"/>
            <a:chExt cx="1676520" cy="2440440"/>
          </a:xfrm>
        </p:grpSpPr>
        <p:sp>
          <p:nvSpPr>
            <p:cNvPr id="169" name=""/>
            <p:cNvSpPr/>
            <p:nvPr/>
          </p:nvSpPr>
          <p:spPr>
            <a:xfrm flipH="1" flipV="1">
              <a:off x="1828440" y="4114440"/>
              <a:ext cx="762120" cy="22860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82640" y="4044960"/>
              <a:ext cx="13968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914040" y="3809520"/>
              <a:ext cx="762120" cy="22860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0760" y="4116240"/>
              <a:ext cx="914040" cy="213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06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051920" y="5310360"/>
            <a:ext cx="121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m Rcv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73760" y="5264280"/>
            <a:ext cx="12063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09040" y="5386320"/>
            <a:ext cx="109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m Xm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562720" y="4190760"/>
            <a:ext cx="761760" cy="22860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30960" y="4121280"/>
            <a:ext cx="13968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400800" y="3200400"/>
            <a:ext cx="0" cy="91440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20280" y="4192560"/>
            <a:ext cx="91368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477120" y="4190760"/>
            <a:ext cx="761760" cy="22860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97680" y="367992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p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91880" y="3603600"/>
            <a:ext cx="2065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p or Ground Pl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37840" y="4898880"/>
            <a:ext cx="91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Wat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w do I get there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74920" y="4691160"/>
            <a:ext cx="1460520" cy="1123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484440" y="4132440"/>
            <a:ext cx="1098720" cy="412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237280" y="4132440"/>
            <a:ext cx="1098360" cy="41256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2895840" y="2666520"/>
            <a:ext cx="913680" cy="2516040"/>
            <a:chOff x="2895840" y="2666520"/>
            <a:chExt cx="913680" cy="2516040"/>
          </a:xfrm>
        </p:grpSpPr>
        <p:sp>
          <p:nvSpPr>
            <p:cNvPr id="189" name=""/>
            <p:cNvSpPr/>
            <p:nvPr/>
          </p:nvSpPr>
          <p:spPr>
            <a:xfrm flipV="1">
              <a:off x="2971800" y="3047760"/>
              <a:ext cx="228600" cy="7596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06880" y="2978280"/>
              <a:ext cx="13968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76720" y="2666520"/>
              <a:ext cx="0" cy="30492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95840" y="3049560"/>
              <a:ext cx="913680" cy="21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3352320" y="3047760"/>
              <a:ext cx="304920" cy="7596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260400" y="3832200"/>
            <a:ext cx="1006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m FM T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791320" y="2057400"/>
            <a:ext cx="1676160" cy="3125160"/>
            <a:chOff x="5791320" y="2057400"/>
            <a:chExt cx="1676160" cy="3125160"/>
          </a:xfrm>
        </p:grpSpPr>
        <p:sp>
          <p:nvSpPr>
            <p:cNvPr id="196" name=""/>
            <p:cNvSpPr/>
            <p:nvPr/>
          </p:nvSpPr>
          <p:spPr>
            <a:xfrm flipH="1" flipV="1">
              <a:off x="6705720" y="3047760"/>
              <a:ext cx="761760" cy="22860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59560" y="2978280"/>
              <a:ext cx="13968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629400" y="2057400"/>
              <a:ext cx="0" cy="91440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7680" y="3049560"/>
              <a:ext cx="914040" cy="21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06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791320" y="3047760"/>
              <a:ext cx="761760" cy="22860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211120" y="3832200"/>
            <a:ext cx="1334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cm SSB R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273560" y="5111640"/>
            <a:ext cx="1206360" cy="444600"/>
            <a:chOff x="4273560" y="5111640"/>
            <a:chExt cx="1206360" cy="444600"/>
          </a:xfrm>
        </p:grpSpPr>
        <p:sp>
          <p:nvSpPr>
            <p:cNvPr id="203" name=""/>
            <p:cNvSpPr/>
            <p:nvPr/>
          </p:nvSpPr>
          <p:spPr>
            <a:xfrm>
              <a:off x="4273560" y="5111640"/>
              <a:ext cx="12063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30600" y="520380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H="1">
            <a:off x="2742840" y="541008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457200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257440" y="457200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0" y="1805040"/>
            <a:ext cx="431316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tellite Packet on the “PACSAT’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re and Forward BBS in the s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00 PSK and 9600 F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w do I get there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 and where are the bird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cking and orbit softwar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02640" y="3005280"/>
            <a:ext cx="5775120" cy="2830320"/>
          </a:xfrm>
          <a:prstGeom prst="rect">
            <a:avLst/>
          </a:prstGeom>
          <a:noFill/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ffb"/>
                </a:solidFill>
                <a:latin typeface="Arial"/>
              </a:rPr>
              <a:t>TRACKING SATELLITE AO-13 FOR WB9OEP FROM EPOCH 23AUG95 025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14ffb"/>
                </a:solidFill>
                <a:latin typeface="Arial"/>
              </a:rPr>
              <a:t>DATE    Time    Az/El   Lng/Lat  Range/ Ph/Md  PA/E/V       Dop.    ES  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ffb"/>
                </a:solidFill>
                <a:latin typeface="Arial"/>
              </a:rPr>
              <a:t>23AUG95 070612  278/58  109/ 28   16772/ 27/B   56/0/V     -1540Hz   17  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ffb"/>
                </a:solidFill>
                <a:latin typeface="Arial"/>
              </a:rPr>
              <a:t>23AUG95 071612  269/59  108/ 25   18641/ 31/B   50/0/V     -1487Hz   15  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ffb"/>
                </a:solidFill>
                <a:latin typeface="Arial"/>
              </a:rPr>
              <a:t>23AUG95 072612  262/59  108/ 22   20437/ 34/B   45/0/V     -1424Hz   14  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ffb"/>
                </a:solidFill>
                <a:latin typeface="Arial"/>
              </a:rPr>
              <a:t>23AUG95 073612  257/57  109/ 19   22153/ 38/B   41/0/V     -1358Hz   13  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ffb"/>
                </a:solidFill>
                <a:latin typeface="Arial"/>
              </a:rPr>
              <a:t>23AUG95 074612  252/56  110/ 17   23787/ 42/B   38/0/V     -1291Hz   13  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ffb"/>
                </a:solidFill>
                <a:latin typeface="Arial"/>
              </a:rPr>
              <a:t>23AUG95 075612  249/54  111/ 14   25339/ 46/B   35/0/V     -1226Hz   12  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ffb"/>
                </a:solidFill>
                <a:latin typeface="Arial"/>
              </a:rPr>
              <a:t>23AUG95 080612  247/52  112/ 12   26813/ 49/B   32/0/V     -1163Hz   11  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ffb"/>
                </a:solidFill>
                <a:latin typeface="Arial"/>
              </a:rPr>
              <a:t>23AUG95 081612  245/50  113/ 10   28211/ 53/B   30/0/V     -1103Hz   11  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ffb"/>
                </a:solidFill>
                <a:latin typeface="Arial"/>
              </a:rPr>
              <a:t>23AUG95 082612  244/47  114/  9   29535/ 57/B   27/0/V     -1045Hz   11  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ffb"/>
                </a:solidFill>
                <a:latin typeface="Arial"/>
              </a:rPr>
              <a:t>23AUG95 083612  244/45  116/  7   30790/ 61/B   25/0/V      -989Hz   10  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ffb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114ffb"/>
                </a:solidFill>
                <a:latin typeface="Arial"/>
              </a:rPr>
              <a:t>0=RETURN,1=CONTINUE,2=SCROLL,7=STEP1,8=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 Beginners Guide Handouts..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ur Phases of AMSAT Program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46000" y="1914480"/>
            <a:ext cx="73072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ase 1: Battery powered and sub-orbital satellit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ase 2: Low Earth Orbits (LEO'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82680" y="2820960"/>
            <a:ext cx="6085080" cy="33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ow Earth Orbit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571920" y="2063880"/>
            <a:ext cx="4575240" cy="3873240"/>
            <a:chOff x="3571920" y="2063880"/>
            <a:chExt cx="4575240" cy="3873240"/>
          </a:xfrm>
        </p:grpSpPr>
        <p:sp>
          <p:nvSpPr>
            <p:cNvPr id="219" name=""/>
            <p:cNvSpPr/>
            <p:nvPr/>
          </p:nvSpPr>
          <p:spPr>
            <a:xfrm>
              <a:off x="3892680" y="2063880"/>
              <a:ext cx="4254480" cy="387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64280" y="3282840"/>
              <a:ext cx="1358640" cy="12067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46880" y="3710160"/>
              <a:ext cx="768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571920" y="3457440"/>
              <a:ext cx="869760" cy="765360"/>
              <a:chOff x="3571920" y="3457440"/>
              <a:chExt cx="869760" cy="76536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579840" y="3716280"/>
                <a:ext cx="861840" cy="473040"/>
                <a:chOff x="3579840" y="3716280"/>
                <a:chExt cx="861840" cy="473040"/>
              </a:xfrm>
            </p:grpSpPr>
            <p:sp>
              <p:nvSpPr>
                <p:cNvPr id="224" name=""/>
                <p:cNvSpPr/>
                <p:nvPr/>
              </p:nvSpPr>
              <p:spPr>
                <a:xfrm flipV="1">
                  <a:off x="3589200" y="3719520"/>
                  <a:ext cx="849600" cy="466560"/>
                </a:xfrm>
                <a:prstGeom prst="line">
                  <a:avLst/>
                </a:prstGeom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3579840" y="3716280"/>
                  <a:ext cx="861840" cy="473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571920" y="3457440"/>
                <a:ext cx="655560" cy="474840"/>
                <a:chOff x="3571920" y="3457440"/>
                <a:chExt cx="655560" cy="47484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3571920" y="3457440"/>
                  <a:ext cx="655560" cy="474840"/>
                  <a:chOff x="3571920" y="3457440"/>
                  <a:chExt cx="655560" cy="47484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3571920" y="3457440"/>
                    <a:ext cx="517320" cy="47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299">
                        <a:moveTo>
                          <a:pt x="0" y="140"/>
                        </a:moveTo>
                        <a:lnTo>
                          <a:pt x="235" y="0"/>
                        </a:lnTo>
                        <a:lnTo>
                          <a:pt x="325" y="158"/>
                        </a:lnTo>
                        <a:lnTo>
                          <a:pt x="92" y="298"/>
                        </a:lnTo>
                        <a:lnTo>
                          <a:pt x="0" y="140"/>
                        </a:lnTo>
                      </a:path>
                    </a:pathLst>
                  </a:custGeom>
                  <a:solidFill>
                    <a:srgbClr val="c0e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3944880" y="3459240"/>
                    <a:ext cx="28260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78">
                        <a:moveTo>
                          <a:pt x="0" y="0"/>
                        </a:moveTo>
                        <a:lnTo>
                          <a:pt x="130" y="92"/>
                        </a:lnTo>
                        <a:lnTo>
                          <a:pt x="177" y="177"/>
                        </a:lnTo>
                        <a:lnTo>
                          <a:pt x="90" y="15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3718080" y="3708360"/>
                    <a:ext cx="50616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141">
                        <a:moveTo>
                          <a:pt x="0" y="140"/>
                        </a:moveTo>
                        <a:lnTo>
                          <a:pt x="233" y="0"/>
                        </a:lnTo>
                        <a:lnTo>
                          <a:pt x="318" y="18"/>
                        </a:lnTo>
                        <a:lnTo>
                          <a:pt x="141" y="115"/>
                        </a:lnTo>
                        <a:lnTo>
                          <a:pt x="0" y="14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3683160" y="3567240"/>
                  <a:ext cx="268200" cy="204840"/>
                  <a:chOff x="3683160" y="3567240"/>
                  <a:chExt cx="268200" cy="20484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3683160" y="3648240"/>
                    <a:ext cx="118800" cy="123840"/>
                  </a:xfrm>
                  <a:prstGeom prst="ellipse">
                    <a:avLst/>
                  </a:prstGeom>
                  <a:solidFill>
                    <a:srgbClr val="408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830760" y="3567240"/>
                    <a:ext cx="120600" cy="123840"/>
                  </a:xfrm>
                  <a:prstGeom prst="ellipse">
                    <a:avLst/>
                  </a:prstGeom>
                  <a:solidFill>
                    <a:srgbClr val="408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4" name=""/>
              <p:cNvSpPr/>
              <p:nvPr/>
            </p:nvSpPr>
            <p:spPr>
              <a:xfrm>
                <a:off x="3805200" y="3781440"/>
                <a:ext cx="250920" cy="441360"/>
              </a:xfrm>
              <a:custGeom>
                <a:avLst/>
                <a:gdLst/>
                <a:ahLst/>
                <a:rect l="l" t="t" r="r" b="b"/>
                <a:pathLst>
                  <a:path w="158" h="278">
                    <a:moveTo>
                      <a:pt x="55" y="0"/>
                    </a:moveTo>
                    <a:lnTo>
                      <a:pt x="157" y="0"/>
                    </a:lnTo>
                    <a:lnTo>
                      <a:pt x="136" y="39"/>
                    </a:lnTo>
                    <a:lnTo>
                      <a:pt x="125" y="75"/>
                    </a:lnTo>
                    <a:lnTo>
                      <a:pt x="114" y="120"/>
                    </a:lnTo>
                    <a:lnTo>
                      <a:pt x="111" y="149"/>
                    </a:lnTo>
                    <a:lnTo>
                      <a:pt x="110" y="186"/>
                    </a:lnTo>
                    <a:lnTo>
                      <a:pt x="111" y="208"/>
                    </a:lnTo>
                    <a:lnTo>
                      <a:pt x="113" y="234"/>
                    </a:lnTo>
                    <a:lnTo>
                      <a:pt x="116" y="254"/>
                    </a:lnTo>
                    <a:lnTo>
                      <a:pt x="120" y="276"/>
                    </a:lnTo>
                    <a:lnTo>
                      <a:pt x="8" y="277"/>
                    </a:lnTo>
                    <a:lnTo>
                      <a:pt x="5" y="259"/>
                    </a:lnTo>
                    <a:lnTo>
                      <a:pt x="1" y="237"/>
                    </a:lnTo>
                    <a:lnTo>
                      <a:pt x="1" y="215"/>
                    </a:lnTo>
                    <a:lnTo>
                      <a:pt x="0" y="192"/>
                    </a:lnTo>
                    <a:lnTo>
                      <a:pt x="1" y="171"/>
                    </a:lnTo>
                    <a:lnTo>
                      <a:pt x="2" y="153"/>
                    </a:lnTo>
                    <a:lnTo>
                      <a:pt x="5" y="131"/>
                    </a:lnTo>
                    <a:lnTo>
                      <a:pt x="10" y="110"/>
                    </a:lnTo>
                    <a:lnTo>
                      <a:pt x="15" y="88"/>
                    </a:lnTo>
                    <a:lnTo>
                      <a:pt x="23" y="61"/>
                    </a:lnTo>
                    <a:lnTo>
                      <a:pt x="33" y="41"/>
                    </a:lnTo>
                    <a:lnTo>
                      <a:pt x="43" y="18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08520" y="3618000"/>
                <a:ext cx="420480" cy="444240"/>
              </a:xfrm>
              <a:custGeom>
                <a:avLst/>
                <a:gdLst/>
                <a:ahLst/>
                <a:rect l="l" t="t" r="r" b="b"/>
                <a:pathLst>
                  <a:path w="265" h="280">
                    <a:moveTo>
                      <a:pt x="0" y="247"/>
                    </a:moveTo>
                    <a:lnTo>
                      <a:pt x="5" y="227"/>
                    </a:lnTo>
                    <a:lnTo>
                      <a:pt x="14" y="198"/>
                    </a:lnTo>
                    <a:lnTo>
                      <a:pt x="23" y="174"/>
                    </a:lnTo>
                    <a:lnTo>
                      <a:pt x="36" y="146"/>
                    </a:lnTo>
                    <a:lnTo>
                      <a:pt x="50" y="123"/>
                    </a:lnTo>
                    <a:lnTo>
                      <a:pt x="64" y="102"/>
                    </a:lnTo>
                    <a:lnTo>
                      <a:pt x="79" y="82"/>
                    </a:lnTo>
                    <a:lnTo>
                      <a:pt x="99" y="61"/>
                    </a:lnTo>
                    <a:lnTo>
                      <a:pt x="112" y="49"/>
                    </a:lnTo>
                    <a:lnTo>
                      <a:pt x="124" y="38"/>
                    </a:lnTo>
                    <a:lnTo>
                      <a:pt x="147" y="20"/>
                    </a:lnTo>
                    <a:lnTo>
                      <a:pt x="163" y="9"/>
                    </a:lnTo>
                    <a:lnTo>
                      <a:pt x="179" y="0"/>
                    </a:lnTo>
                    <a:lnTo>
                      <a:pt x="264" y="32"/>
                    </a:lnTo>
                    <a:lnTo>
                      <a:pt x="238" y="49"/>
                    </a:lnTo>
                    <a:lnTo>
                      <a:pt x="221" y="61"/>
                    </a:lnTo>
                    <a:lnTo>
                      <a:pt x="203" y="75"/>
                    </a:lnTo>
                    <a:lnTo>
                      <a:pt x="188" y="90"/>
                    </a:lnTo>
                    <a:lnTo>
                      <a:pt x="175" y="103"/>
                    </a:lnTo>
                    <a:lnTo>
                      <a:pt x="163" y="118"/>
                    </a:lnTo>
                    <a:lnTo>
                      <a:pt x="149" y="137"/>
                    </a:lnTo>
                    <a:lnTo>
                      <a:pt x="137" y="156"/>
                    </a:lnTo>
                    <a:lnTo>
                      <a:pt x="127" y="173"/>
                    </a:lnTo>
                    <a:lnTo>
                      <a:pt x="115" y="196"/>
                    </a:lnTo>
                    <a:lnTo>
                      <a:pt x="104" y="219"/>
                    </a:lnTo>
                    <a:lnTo>
                      <a:pt x="98" y="237"/>
                    </a:lnTo>
                    <a:lnTo>
                      <a:pt x="91" y="259"/>
                    </a:lnTo>
                    <a:lnTo>
                      <a:pt x="87" y="279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5943600" y="32004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43600" y="44197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75480" y="287172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75120" y="462456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8440" y="2523960"/>
            <a:ext cx="3421080" cy="22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Orbi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ar (incl. = 90 deg.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0 to 800 miles hig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to 10 useable orbits/da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 to 25 minutes acc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29400" y="38862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42160" y="3579840"/>
            <a:ext cx="96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 Microsat Project Here..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UROMIR 95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FEX II : Space Amateur Funk EXperi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ular MIR 2meter oper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0 cm equipmen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 voic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SK 9600 baud packet modes (G3RUH system).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cture transmission by means of a new "SSTV" mode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X.25 packets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"thumbnail" image over a short period of tim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creasing resolution as more of the transmission is recei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nding in Kazakhstan on 16-Jan-96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UROMIR FREQUENCI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m-Band ------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ce: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wnlink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5.850 MH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link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5.250 MH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Radio:  Downlink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5.550 MH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link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4.625 MHz   145.550 MH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tional Uplinks: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5.200 145.225 144.675 144.725 MH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0cm-Band --------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ce: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wnlink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37.925 MH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link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35.725 MH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Radio:  Downlink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37.775 MH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link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35.775 MH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itional Uplinks: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35.800 MHz to 436.000 MHz with 25 kHz spac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ur Phases of AMSAT Program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ase 3: High Earth Orbits (HEO'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68280" y="2678040"/>
            <a:ext cx="6085080" cy="33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74800" y="2262240"/>
            <a:ext cx="6120000" cy="27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 is AMSAT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's Up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do I get there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do I find out more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25680" y="669960"/>
            <a:ext cx="26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Steve Park WB9O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AMSAT Area Coord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igh Earth Orbit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435480" y="1781280"/>
            <a:ext cx="5473440" cy="4003560"/>
            <a:chOff x="3435480" y="1781280"/>
            <a:chExt cx="5473440" cy="4003560"/>
          </a:xfrm>
        </p:grpSpPr>
        <p:sp>
          <p:nvSpPr>
            <p:cNvPr id="254" name=""/>
            <p:cNvSpPr/>
            <p:nvPr/>
          </p:nvSpPr>
          <p:spPr>
            <a:xfrm>
              <a:off x="3435480" y="2063880"/>
              <a:ext cx="5473440" cy="372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467400" y="1781280"/>
              <a:ext cx="870120" cy="765000"/>
              <a:chOff x="6467400" y="1781280"/>
              <a:chExt cx="870120" cy="7650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6475320" y="2039400"/>
                <a:ext cx="862200" cy="473400"/>
                <a:chOff x="6475320" y="2039400"/>
                <a:chExt cx="862200" cy="473400"/>
              </a:xfrm>
            </p:grpSpPr>
            <p:sp>
              <p:nvSpPr>
                <p:cNvPr id="257" name=""/>
                <p:cNvSpPr/>
                <p:nvPr/>
              </p:nvSpPr>
              <p:spPr>
                <a:xfrm flipV="1">
                  <a:off x="6485040" y="2042640"/>
                  <a:ext cx="849240" cy="466920"/>
                </a:xfrm>
                <a:prstGeom prst="line">
                  <a:avLst/>
                </a:prstGeom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6475320" y="2039400"/>
                  <a:ext cx="862200" cy="47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6467400" y="1781280"/>
                <a:ext cx="655560" cy="474480"/>
                <a:chOff x="6467400" y="1781280"/>
                <a:chExt cx="655560" cy="47448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6467400" y="1781280"/>
                  <a:ext cx="655560" cy="474480"/>
                  <a:chOff x="6467400" y="1781280"/>
                  <a:chExt cx="655560" cy="47448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6467400" y="1781280"/>
                    <a:ext cx="517680" cy="47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299">
                        <a:moveTo>
                          <a:pt x="0" y="140"/>
                        </a:moveTo>
                        <a:lnTo>
                          <a:pt x="235" y="0"/>
                        </a:lnTo>
                        <a:lnTo>
                          <a:pt x="325" y="158"/>
                        </a:lnTo>
                        <a:lnTo>
                          <a:pt x="92" y="298"/>
                        </a:lnTo>
                        <a:lnTo>
                          <a:pt x="0" y="140"/>
                        </a:lnTo>
                      </a:path>
                    </a:pathLst>
                  </a:custGeom>
                  <a:solidFill>
                    <a:srgbClr val="c0e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840360" y="1782720"/>
                    <a:ext cx="28260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78">
                        <a:moveTo>
                          <a:pt x="0" y="0"/>
                        </a:moveTo>
                        <a:lnTo>
                          <a:pt x="130" y="92"/>
                        </a:lnTo>
                        <a:lnTo>
                          <a:pt x="177" y="177"/>
                        </a:lnTo>
                        <a:lnTo>
                          <a:pt x="90" y="15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6613560" y="2031840"/>
                    <a:ext cx="50652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141">
                        <a:moveTo>
                          <a:pt x="0" y="140"/>
                        </a:moveTo>
                        <a:lnTo>
                          <a:pt x="233" y="0"/>
                        </a:lnTo>
                        <a:lnTo>
                          <a:pt x="318" y="18"/>
                        </a:lnTo>
                        <a:lnTo>
                          <a:pt x="141" y="115"/>
                        </a:lnTo>
                        <a:lnTo>
                          <a:pt x="0" y="14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6578640" y="1890720"/>
                  <a:ext cx="268200" cy="204840"/>
                  <a:chOff x="6578640" y="1890720"/>
                  <a:chExt cx="268200" cy="20484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6578640" y="1971720"/>
                    <a:ext cx="119160" cy="123840"/>
                  </a:xfrm>
                  <a:prstGeom prst="ellipse">
                    <a:avLst/>
                  </a:prstGeom>
                  <a:solidFill>
                    <a:srgbClr val="408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726240" y="1890720"/>
                    <a:ext cx="120600" cy="123840"/>
                  </a:xfrm>
                  <a:prstGeom prst="ellipse">
                    <a:avLst/>
                  </a:prstGeom>
                  <a:solidFill>
                    <a:srgbClr val="408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7" name=""/>
              <p:cNvSpPr/>
              <p:nvPr/>
            </p:nvSpPr>
            <p:spPr>
              <a:xfrm>
                <a:off x="6700680" y="2104920"/>
                <a:ext cx="250920" cy="441360"/>
              </a:xfrm>
              <a:custGeom>
                <a:avLst/>
                <a:gdLst/>
                <a:ahLst/>
                <a:rect l="l" t="t" r="r" b="b"/>
                <a:pathLst>
                  <a:path w="158" h="278">
                    <a:moveTo>
                      <a:pt x="55" y="0"/>
                    </a:moveTo>
                    <a:lnTo>
                      <a:pt x="157" y="0"/>
                    </a:lnTo>
                    <a:lnTo>
                      <a:pt x="136" y="39"/>
                    </a:lnTo>
                    <a:lnTo>
                      <a:pt x="125" y="75"/>
                    </a:lnTo>
                    <a:lnTo>
                      <a:pt x="114" y="120"/>
                    </a:lnTo>
                    <a:lnTo>
                      <a:pt x="111" y="149"/>
                    </a:lnTo>
                    <a:lnTo>
                      <a:pt x="110" y="186"/>
                    </a:lnTo>
                    <a:lnTo>
                      <a:pt x="111" y="208"/>
                    </a:lnTo>
                    <a:lnTo>
                      <a:pt x="113" y="234"/>
                    </a:lnTo>
                    <a:lnTo>
                      <a:pt x="116" y="254"/>
                    </a:lnTo>
                    <a:lnTo>
                      <a:pt x="120" y="276"/>
                    </a:lnTo>
                    <a:lnTo>
                      <a:pt x="8" y="277"/>
                    </a:lnTo>
                    <a:lnTo>
                      <a:pt x="5" y="259"/>
                    </a:lnTo>
                    <a:lnTo>
                      <a:pt x="1" y="237"/>
                    </a:lnTo>
                    <a:lnTo>
                      <a:pt x="1" y="215"/>
                    </a:lnTo>
                    <a:lnTo>
                      <a:pt x="0" y="192"/>
                    </a:lnTo>
                    <a:lnTo>
                      <a:pt x="1" y="171"/>
                    </a:lnTo>
                    <a:lnTo>
                      <a:pt x="2" y="153"/>
                    </a:lnTo>
                    <a:lnTo>
                      <a:pt x="5" y="131"/>
                    </a:lnTo>
                    <a:lnTo>
                      <a:pt x="10" y="110"/>
                    </a:lnTo>
                    <a:lnTo>
                      <a:pt x="15" y="88"/>
                    </a:lnTo>
                    <a:lnTo>
                      <a:pt x="23" y="61"/>
                    </a:lnTo>
                    <a:lnTo>
                      <a:pt x="33" y="41"/>
                    </a:lnTo>
                    <a:lnTo>
                      <a:pt x="43" y="18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804000" y="1941480"/>
                <a:ext cx="420840" cy="444600"/>
              </a:xfrm>
              <a:custGeom>
                <a:avLst/>
                <a:gdLst/>
                <a:ahLst/>
                <a:rect l="l" t="t" r="r" b="b"/>
                <a:pathLst>
                  <a:path w="265" h="280">
                    <a:moveTo>
                      <a:pt x="0" y="247"/>
                    </a:moveTo>
                    <a:lnTo>
                      <a:pt x="5" y="227"/>
                    </a:lnTo>
                    <a:lnTo>
                      <a:pt x="14" y="198"/>
                    </a:lnTo>
                    <a:lnTo>
                      <a:pt x="23" y="174"/>
                    </a:lnTo>
                    <a:lnTo>
                      <a:pt x="36" y="146"/>
                    </a:lnTo>
                    <a:lnTo>
                      <a:pt x="50" y="123"/>
                    </a:lnTo>
                    <a:lnTo>
                      <a:pt x="64" y="102"/>
                    </a:lnTo>
                    <a:lnTo>
                      <a:pt x="79" y="82"/>
                    </a:lnTo>
                    <a:lnTo>
                      <a:pt x="99" y="61"/>
                    </a:lnTo>
                    <a:lnTo>
                      <a:pt x="112" y="49"/>
                    </a:lnTo>
                    <a:lnTo>
                      <a:pt x="124" y="38"/>
                    </a:lnTo>
                    <a:lnTo>
                      <a:pt x="147" y="20"/>
                    </a:lnTo>
                    <a:lnTo>
                      <a:pt x="163" y="9"/>
                    </a:lnTo>
                    <a:lnTo>
                      <a:pt x="179" y="0"/>
                    </a:lnTo>
                    <a:lnTo>
                      <a:pt x="264" y="32"/>
                    </a:lnTo>
                    <a:lnTo>
                      <a:pt x="238" y="49"/>
                    </a:lnTo>
                    <a:lnTo>
                      <a:pt x="221" y="61"/>
                    </a:lnTo>
                    <a:lnTo>
                      <a:pt x="203" y="75"/>
                    </a:lnTo>
                    <a:lnTo>
                      <a:pt x="188" y="90"/>
                    </a:lnTo>
                    <a:lnTo>
                      <a:pt x="175" y="103"/>
                    </a:lnTo>
                    <a:lnTo>
                      <a:pt x="163" y="118"/>
                    </a:lnTo>
                    <a:lnTo>
                      <a:pt x="149" y="137"/>
                    </a:lnTo>
                    <a:lnTo>
                      <a:pt x="137" y="156"/>
                    </a:lnTo>
                    <a:lnTo>
                      <a:pt x="127" y="173"/>
                    </a:lnTo>
                    <a:lnTo>
                      <a:pt x="115" y="196"/>
                    </a:lnTo>
                    <a:lnTo>
                      <a:pt x="104" y="219"/>
                    </a:lnTo>
                    <a:lnTo>
                      <a:pt x="98" y="237"/>
                    </a:lnTo>
                    <a:lnTo>
                      <a:pt x="91" y="259"/>
                    </a:lnTo>
                    <a:lnTo>
                      <a:pt x="87" y="279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3664080" y="2871720"/>
              <a:ext cx="1358640" cy="2119680"/>
              <a:chOff x="3664080" y="2871720"/>
              <a:chExt cx="1358640" cy="2119680"/>
            </a:xfrm>
          </p:grpSpPr>
          <p:sp>
            <p:nvSpPr>
              <p:cNvPr id="270" name=""/>
              <p:cNvSpPr/>
              <p:nvPr/>
            </p:nvSpPr>
            <p:spPr>
              <a:xfrm>
                <a:off x="3664080" y="3282840"/>
                <a:ext cx="1358640" cy="12067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3710160"/>
                <a:ext cx="7686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ar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343400" y="32004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343400" y="44197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75280" y="2871720"/>
                <a:ext cx="349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174920" y="462456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8440" y="2523960"/>
            <a:ext cx="3421080" cy="22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liptical Orbi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to 60 deg. inc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p to 26,000 miles hig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useable orbits/da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to 8 hours acc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38862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61280" y="3579840"/>
            <a:ext cx="113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,00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638680" y="5334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w do I get there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517392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O equip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enna Gain and Track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341440" y="5656320"/>
            <a:ext cx="1098720" cy="4125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389560" y="5656320"/>
            <a:ext cx="1098720" cy="412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358240" y="6118200"/>
            <a:ext cx="113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m SSB R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21200" y="6118200"/>
            <a:ext cx="131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cm SSB T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742840" y="2971800"/>
            <a:ext cx="1219320" cy="1219320"/>
            <a:chOff x="2742840" y="2971800"/>
            <a:chExt cx="1219320" cy="1219320"/>
          </a:xfrm>
        </p:grpSpPr>
        <p:grpSp>
          <p:nvGrpSpPr>
            <p:cNvPr id="287" name=""/>
            <p:cNvGrpSpPr/>
            <p:nvPr/>
          </p:nvGrpSpPr>
          <p:grpSpPr>
            <a:xfrm>
              <a:off x="2742840" y="2971800"/>
              <a:ext cx="1219320" cy="1219320"/>
              <a:chOff x="2742840" y="2971800"/>
              <a:chExt cx="1219320" cy="1219320"/>
            </a:xfrm>
          </p:grpSpPr>
          <p:sp>
            <p:nvSpPr>
              <p:cNvPr id="288" name=""/>
              <p:cNvSpPr/>
              <p:nvPr/>
            </p:nvSpPr>
            <p:spPr>
              <a:xfrm flipH="1">
                <a:off x="2742840" y="2971800"/>
                <a:ext cx="244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2904840" y="3124080"/>
                <a:ext cx="244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3068280" y="3276720"/>
                <a:ext cx="24300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3230280" y="3429000"/>
                <a:ext cx="244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3393720" y="3581280"/>
                <a:ext cx="2430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3555720" y="3733920"/>
                <a:ext cx="24444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3717720" y="3886200"/>
                <a:ext cx="244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2895480" y="3124080"/>
              <a:ext cx="914400" cy="9144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09520" y="2819520"/>
            <a:ext cx="1219320" cy="1218960"/>
            <a:chOff x="3809520" y="2819520"/>
            <a:chExt cx="1219320" cy="1218960"/>
          </a:xfrm>
        </p:grpSpPr>
        <p:grpSp>
          <p:nvGrpSpPr>
            <p:cNvPr id="297" name=""/>
            <p:cNvGrpSpPr/>
            <p:nvPr/>
          </p:nvGrpSpPr>
          <p:grpSpPr>
            <a:xfrm>
              <a:off x="3809520" y="2819520"/>
              <a:ext cx="1219320" cy="1218960"/>
              <a:chOff x="3809520" y="2819520"/>
              <a:chExt cx="1219320" cy="1218960"/>
            </a:xfrm>
          </p:grpSpPr>
          <p:sp>
            <p:nvSpPr>
              <p:cNvPr id="298" name=""/>
              <p:cNvSpPr/>
              <p:nvPr/>
            </p:nvSpPr>
            <p:spPr>
              <a:xfrm flipH="1">
                <a:off x="3809520" y="2819520"/>
                <a:ext cx="24444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3971520" y="2971800"/>
                <a:ext cx="244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4134960" y="3124080"/>
                <a:ext cx="2430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4296960" y="3276720"/>
                <a:ext cx="24444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4460400" y="3429000"/>
                <a:ext cx="2430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4622400" y="3581280"/>
                <a:ext cx="244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4784400" y="3733920"/>
                <a:ext cx="24444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3962520" y="2971800"/>
              <a:ext cx="914400" cy="9144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352680" y="3581280"/>
            <a:ext cx="457200" cy="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16360" y="3511440"/>
            <a:ext cx="291960" cy="139680"/>
          </a:xfrm>
          <a:prstGeom prst="rect">
            <a:avLst/>
          </a:prstGeom>
          <a:solidFill>
            <a:srgbClr val="919191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3581280"/>
            <a:ext cx="457200" cy="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36576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16360" y="4578480"/>
            <a:ext cx="291960" cy="2919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352680" y="4114800"/>
            <a:ext cx="1219320" cy="1143000"/>
            <a:chOff x="3352680" y="4114800"/>
            <a:chExt cx="1219320" cy="1143000"/>
          </a:xfrm>
        </p:grpSpPr>
        <p:grpSp>
          <p:nvGrpSpPr>
            <p:cNvPr id="312" name=""/>
            <p:cNvGrpSpPr/>
            <p:nvPr/>
          </p:nvGrpSpPr>
          <p:grpSpPr>
            <a:xfrm>
              <a:off x="3352680" y="4114800"/>
              <a:ext cx="1219320" cy="1143000"/>
              <a:chOff x="3352680" y="4114800"/>
              <a:chExt cx="1219320" cy="1143000"/>
            </a:xfrm>
          </p:grpSpPr>
          <p:sp>
            <p:nvSpPr>
              <p:cNvPr id="313" name=""/>
              <p:cNvSpPr/>
              <p:nvPr/>
            </p:nvSpPr>
            <p:spPr>
              <a:xfrm flipH="1">
                <a:off x="3352680" y="4114800"/>
                <a:ext cx="609840" cy="1143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352680" y="5257800"/>
                <a:ext cx="12193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962520" y="4114800"/>
                <a:ext cx="609480" cy="1143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3567240" y="4871880"/>
              <a:ext cx="804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201840" y="4040280"/>
            <a:ext cx="121932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6600" y="3887640"/>
            <a:ext cx="15235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7" y="0"/>
                </a:moveTo>
                <a:arcTo wR="10800" hR="10800" stAng="-5407162" swAng="5407162"/>
                <a:lnTo>
                  <a:pt x="10800" y="10800"/>
                </a:lnTo>
                <a:close/>
              </a:path>
              <a:path fill="none" w="21600" h="21600">
                <a:moveTo>
                  <a:pt x="10777" y="0"/>
                </a:moveTo>
                <a:arcTo wR="10800" hR="10800" stAng="-5407162" swAng="5407162"/>
              </a:path>
            </a:pathLst>
          </a:custGeom>
          <a:noFill/>
          <a:ln cap="rnd"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92280" y="4640400"/>
            <a:ext cx="77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4ffb"/>
                </a:solidFill>
                <a:latin typeface="Arial"/>
              </a:rPr>
              <a:t>Low L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4ffb"/>
                </a:solidFill>
                <a:latin typeface="Arial"/>
              </a:rPr>
              <a:t>Co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64080" y="4183200"/>
            <a:ext cx="77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4ffb"/>
                </a:solidFill>
                <a:latin typeface="Arial"/>
              </a:rPr>
              <a:t>Low L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4ffb"/>
                </a:solidFill>
                <a:latin typeface="Arial"/>
              </a:rPr>
              <a:t>Co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36440" y="3116160"/>
            <a:ext cx="74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84120" y="3421080"/>
            <a:ext cx="774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5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52080" y="3726000"/>
            <a:ext cx="747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</a:rPr>
              <a:t>Elev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</a:rPr>
              <a:t>Ro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87960" y="5035680"/>
            <a:ext cx="8254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7600" y="5097600"/>
            <a:ext cx="86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</a:rPr>
              <a:t>2m Prea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87600" y="4411800"/>
            <a:ext cx="686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zimu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30680" y="5326200"/>
            <a:ext cx="57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i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 AO-13 stuff he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an Anomaly &amp; Scheduling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14400" y="1752480"/>
            <a:ext cx="7238880" cy="4648320"/>
            <a:chOff x="914400" y="1752480"/>
            <a:chExt cx="7238880" cy="4648320"/>
          </a:xfrm>
        </p:grpSpPr>
        <p:sp>
          <p:nvSpPr>
            <p:cNvPr id="332" name=""/>
            <p:cNvSpPr/>
            <p:nvPr/>
          </p:nvSpPr>
          <p:spPr>
            <a:xfrm>
              <a:off x="920880" y="1758960"/>
              <a:ext cx="7226280" cy="4635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14400" y="403848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904760" y="4038120"/>
              <a:ext cx="6019560" cy="2362680"/>
              <a:chOff x="1904760" y="4038120"/>
              <a:chExt cx="6019560" cy="2362680"/>
            </a:xfrm>
          </p:grpSpPr>
          <p:sp>
            <p:nvSpPr>
              <p:cNvPr id="335" name=""/>
              <p:cNvSpPr/>
              <p:nvPr/>
            </p:nvSpPr>
            <p:spPr>
              <a:xfrm flipH="1" flipV="1">
                <a:off x="1905120" y="4038480"/>
                <a:ext cx="457200" cy="190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1904760" y="4038480"/>
                <a:ext cx="2438280" cy="236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1904760" y="4038120"/>
                <a:ext cx="4343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>
                <a:off x="1905120" y="4038120"/>
                <a:ext cx="533376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1904760" y="4038120"/>
                <a:ext cx="601956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1904760" y="1752480"/>
              <a:ext cx="6019560" cy="2362320"/>
              <a:chOff x="1904760" y="1752480"/>
              <a:chExt cx="6019560" cy="2362320"/>
            </a:xfrm>
          </p:grpSpPr>
          <p:sp>
            <p:nvSpPr>
              <p:cNvPr id="341" name=""/>
              <p:cNvSpPr/>
              <p:nvPr/>
            </p:nvSpPr>
            <p:spPr>
              <a:xfrm flipH="1">
                <a:off x="1905120" y="2209680"/>
                <a:ext cx="457200" cy="190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1904760" y="1752480"/>
                <a:ext cx="2438280" cy="236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1904760" y="2057400"/>
                <a:ext cx="4343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1905120" y="2514600"/>
                <a:ext cx="533376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1904760" y="3276720"/>
                <a:ext cx="601956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1225440" y="3024360"/>
              <a:ext cx="1359000" cy="2119320"/>
              <a:chOff x="1225440" y="3024360"/>
              <a:chExt cx="1359000" cy="2119320"/>
            </a:xfrm>
          </p:grpSpPr>
          <p:sp>
            <p:nvSpPr>
              <p:cNvPr id="347" name=""/>
              <p:cNvSpPr/>
              <p:nvPr/>
            </p:nvSpPr>
            <p:spPr>
              <a:xfrm>
                <a:off x="1225440" y="3435480"/>
                <a:ext cx="1359000" cy="12063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08040" y="3862440"/>
                <a:ext cx="7686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ar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905120" y="335268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05120" y="45720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36640" y="3024360"/>
                <a:ext cx="349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736280" y="477684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134280" y="3832200"/>
            <a:ext cx="855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ig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35640" y="3908520"/>
            <a:ext cx="959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og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=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= +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34840" y="6041880"/>
            <a:ext cx="95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= 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68560" y="6423120"/>
            <a:ext cx="95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= +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54560" y="6118200"/>
            <a:ext cx="95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= +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97560" y="5584680"/>
            <a:ext cx="95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= +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83360" y="4746600"/>
            <a:ext cx="95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= +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983360" y="3070080"/>
            <a:ext cx="95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= +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45280" y="2232000"/>
            <a:ext cx="95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= +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30880" y="1774800"/>
            <a:ext cx="95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= +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44520" y="1469880"/>
            <a:ext cx="1058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= +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58520" y="1851120"/>
            <a:ext cx="1058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= +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334120" y="2057400"/>
            <a:ext cx="83808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315200" y="4038480"/>
            <a:ext cx="83808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76320" y="3733920"/>
            <a:ext cx="83808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334120" y="6095880"/>
            <a:ext cx="83808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Does it Sound Like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st another ham b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milar to SSB or CW on any ban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gnals are 3 to 4 S units above the nois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inuous tuning and calling CQ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ts of ragchewing, DX chasing, etc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Just another ham b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ull Duplex operation -- “I can hear myself!”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 Alligators-- Loud signals are discourag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best of the courteous and skilled operator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121280" y="4425840"/>
            <a:ext cx="3873240" cy="8254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will I find?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46000" y="19908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Gentlemans Bandplan for OSCAR 1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C, WAS, DXCC,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eld Day, JOTA, K2ZRO test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9480" y="4425840"/>
            <a:ext cx="2958840" cy="825480"/>
          </a:xfrm>
          <a:prstGeom prst="rect">
            <a:avLst/>
          </a:prstGeom>
          <a:solidFill>
            <a:srgbClr val="114ffb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716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002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32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718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14800" y="3733920"/>
            <a:ext cx="0" cy="1676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434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006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292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864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150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436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722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008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866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152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5438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724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010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8080" y="3733920"/>
            <a:ext cx="0" cy="1676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229600" y="3733920"/>
            <a:ext cx="0" cy="1676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6440" y="3100320"/>
            <a:ext cx="192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Bea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K, RTTY, 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328920"/>
            <a:ext cx="93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X 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50200" y="3100320"/>
            <a:ext cx="150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0" y="3733920"/>
            <a:ext cx="0" cy="1676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00800" y="3733920"/>
            <a:ext cx="0" cy="1676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5360" y="5432400"/>
            <a:ext cx="82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5.8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40320" y="5432400"/>
            <a:ext cx="82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5.8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83520" y="5432400"/>
            <a:ext cx="82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5.9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755120" y="5432400"/>
            <a:ext cx="82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5.9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61280" y="3176640"/>
            <a:ext cx="997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45320" y="3176640"/>
            <a:ext cx="55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06960" y="4441680"/>
            <a:ext cx="75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T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S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79640" y="4594320"/>
            <a:ext cx="48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03520" y="459432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X F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60920" y="4594320"/>
            <a:ext cx="1064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gche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ther Activiti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ng Awar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orked All Continent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orked All Stat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XC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2ZRO Technical Achievemen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ng Eve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eld Da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raight Key Nigh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spor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emetry and Remote Sens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itor the spacecraft operation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rieve pictures and data from spac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'S ON THE HORIZON ??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74864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NSAT       (AMSAT-SA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Parrot FM repeater" and Mode-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xSAT         (AMSAT-LU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M-Sa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ailand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other UoS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DSAT (U of A Huntsvill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thered launch from S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NSA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val Postgraduate School, Monterey, Californi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Sat-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rae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on Institute of Technolog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ëll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SAT-Fr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REX           (AMSAT-NA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huttle experiments continue..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QUI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tellite QUIck Research Testbed, Stanford Univ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TSAT-3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rea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UTSA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lsinki University of Technology, Finl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'S ON THE HORIZON ??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d News - AO13 to re-enter in December of 199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“Chicken Little” contest has begu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st chance to use this marvelous bir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 News - Phase 3D to fly on Ariane 5 in May of 199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ewest high-powered "Rolls-Royce"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ly Elliptical Harmonic Orbi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 AMSAT projec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Florid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hase 3D: A New Era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99560" y="1619280"/>
            <a:ext cx="219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Rolls Royc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 is AMSAT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Non-profit Corporation with an elected Board of Directo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paid employee and thousands of volunte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ateur Satellite Oper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r Suppor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ftware Exchan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MSAT News Servic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MSAT Journa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tellite Engineer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pose, develop, deploy and operate Amateur Satellit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hase 3D: A New Era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re Power” and Antenna Gain for Phase 3D vs. AO-1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73240" y="1619280"/>
            <a:ext cx="144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 What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53680" y="3013200"/>
            <a:ext cx="6782400" cy="1796040"/>
          </a:xfrm>
          <a:prstGeom prst="rect">
            <a:avLst/>
          </a:prstGeom>
          <a:noFill/>
          <a:ln w="381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Downlink Band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AO13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P3D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Xmtr Power/Ant Gain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Xmtr Power/Ant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2m (146 M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50W/5.5dB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200W/11dB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70cm (435 M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50W/9.5dB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250W/15.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13cm (2.4 G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1W/9dB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50W/19.5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3cm (10 G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  --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50W/20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1.25cm (24 G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  --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1W/20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hase 3D: A New Era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Harmonic M/N = 3/2 Orbi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gt; 20 hours per day availabil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ttle or no tracking requir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240" y="1619280"/>
            <a:ext cx="144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 What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297080" y="3063960"/>
            <a:ext cx="6084720" cy="33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4425840" y="1987560"/>
            <a:ext cx="2121120" cy="2730600"/>
          </a:xfrm>
          <a:custGeom>
            <a:avLst/>
            <a:gdLst>
              <a:gd name="textAreaLeft" fmla="*/ 77400 w 2121120"/>
              <a:gd name="textAreaRight" fmla="*/ 2043720 w 212112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27805">
                <a:moveTo>
                  <a:pt x="2699" y="0"/>
                </a:moveTo>
                <a:arcTo wR="2699" hR="2699" stAng="16200000" swAng="-5400000"/>
                <a:lnTo>
                  <a:pt x="0" y="25106"/>
                </a:lnTo>
                <a:arcTo wR="2699" hR="2699" stAng="10800000" swAng="-5400000"/>
                <a:lnTo>
                  <a:pt x="18901" y="2780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hase 3D: A New Era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88840" y="1542960"/>
            <a:ext cx="201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New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44560" y="2063880"/>
            <a:ext cx="2425680" cy="291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2079720"/>
            <a:ext cx="194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145.800-145.97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44560" y="2444760"/>
            <a:ext cx="2425680" cy="291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47600" y="2460600"/>
            <a:ext cx="194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435.200-435.70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44560" y="2825640"/>
            <a:ext cx="2425680" cy="292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047600" y="2841480"/>
            <a:ext cx="194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436.000-436.50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44560" y="3206880"/>
            <a:ext cx="2425680" cy="291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47600" y="3222720"/>
            <a:ext cx="194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1269.00-1269.5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4560" y="3587760"/>
            <a:ext cx="2425680" cy="291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47600" y="3603600"/>
            <a:ext cx="194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1268.50-1269.0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44560" y="3968640"/>
            <a:ext cx="2425680" cy="292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8320" y="3984480"/>
            <a:ext cx="134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2400.xxx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4560" y="4349880"/>
            <a:ext cx="2425680" cy="291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048320" y="436572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5.645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22096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664080" y="2063880"/>
            <a:ext cx="596880" cy="291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41760" y="2079720"/>
            <a:ext cx="698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LEI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67080" y="2209680"/>
            <a:ext cx="2133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76720" y="259092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64080" y="2444760"/>
            <a:ext cx="596880" cy="291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41760" y="2460600"/>
            <a:ext cx="698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LEI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267080" y="2590920"/>
            <a:ext cx="2133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76720" y="297180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64080" y="2825640"/>
            <a:ext cx="596880" cy="292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41760" y="2841480"/>
            <a:ext cx="698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LEI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267080" y="2971800"/>
            <a:ext cx="2133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76720" y="33526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64080" y="3206880"/>
            <a:ext cx="596880" cy="291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41760" y="3222720"/>
            <a:ext cx="698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LEI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67080" y="3352680"/>
            <a:ext cx="2133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276720" y="373392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587760"/>
            <a:ext cx="596880" cy="291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41760" y="3603600"/>
            <a:ext cx="698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LEI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3733920"/>
            <a:ext cx="2133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4114800"/>
            <a:ext cx="312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76720" y="4495680"/>
            <a:ext cx="312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30960" y="4807080"/>
            <a:ext cx="2425680" cy="291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35800" y="4822920"/>
            <a:ext cx="79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24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73760" y="5187960"/>
            <a:ext cx="2425680" cy="291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76440" y="5203800"/>
            <a:ext cx="1940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10.4510-10.4515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16560" y="5568840"/>
            <a:ext cx="2425680" cy="292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20320" y="5584680"/>
            <a:ext cx="1751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2400.5-2400.9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35680" y="5950080"/>
            <a:ext cx="2425680" cy="291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38720" y="5965920"/>
            <a:ext cx="194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435.300-435.70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78480" y="6330960"/>
            <a:ext cx="2425680" cy="291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81520" y="6346800"/>
            <a:ext cx="194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145.800-145.97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648320" y="2209680"/>
            <a:ext cx="0" cy="4114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6400800" y="2209320"/>
            <a:ext cx="0" cy="2590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6019920" y="2209320"/>
            <a:ext cx="0" cy="297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562720" y="2209680"/>
            <a:ext cx="0" cy="3353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5105520" y="2209680"/>
            <a:ext cx="0" cy="3733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71640" y="4754520"/>
            <a:ext cx="240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ae00"/>
                </a:solidFill>
                <a:uFillTx/>
                <a:latin typeface="Arial"/>
              </a:rPr>
              <a:t>UPLINK Rece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610320" y="4297320"/>
            <a:ext cx="195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DOWNLINK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9360" y="21398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6560" y="21398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73760" y="21398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54640" y="21398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02160" y="244476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16560" y="244476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73760" y="244476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254640" y="244476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02160" y="28256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16560" y="28256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873760" y="28256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54640" y="28256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02160" y="39686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9360" y="39686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73760" y="39686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54640" y="39686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59360" y="434988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16560" y="434988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73760" y="434988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254640" y="434988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02160" y="434988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59360" y="358776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16560" y="358776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873760" y="358776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254640" y="358776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02160" y="358776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59360" y="320688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16560" y="320688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73760" y="320688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254640" y="320688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02160" y="320688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599520" y="2773440"/>
            <a:ext cx="1626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F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0.7 MHz, -15 dB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hase 3D: A New Era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various bands will be designated as show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Mode B" will become "Configuration U/V"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binations such as "Config. UL/VSX” are possibl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36560" y="1619280"/>
            <a:ext cx="231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ansponder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52600" y="3394080"/>
            <a:ext cx="5656320" cy="2526120"/>
          </a:xfrm>
          <a:prstGeom prst="rect">
            <a:avLst/>
          </a:prstGeom>
          <a:noFill/>
          <a:ln w="381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Band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Uplink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Dow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15m (21 M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10m (28 M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None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2m (146 M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V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70cm (435 M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U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23cm (1260 M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L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13cm (2.4 G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5cm (5.6 G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3cm (10 G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None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1.25cm (24 G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None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64800" y="5962680"/>
            <a:ext cx="276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P3D Band Desig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hase 3D: A New Era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00400" y="1619280"/>
            <a:ext cx="279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tenna Configu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65640" y="2308320"/>
            <a:ext cx="6392160" cy="2282760"/>
          </a:xfrm>
          <a:prstGeom prst="rect">
            <a:avLst/>
          </a:prstGeom>
          <a:noFill/>
          <a:ln w="381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Band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Antenna Type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114ffb"/>
                </a:solidFill>
                <a:uFillTx/>
                <a:latin typeface="Arial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10m (28 M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2 ele. whip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4.5 d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2m (146 M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3 low profile dipoles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10 dB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70cm (435 M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6 ele. patch array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13 dB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23cm (1260 M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Short backfire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15 dB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13cm (2.4 G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Parabolic dish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18 dB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5cm (5.6 G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Parabolic dish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18 dB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3cm (10 G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Dual horns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20 dB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1.25cm (24 GHz)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Horn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14ffb"/>
                </a:solidFill>
                <a:latin typeface="Arial"/>
              </a:rPr>
              <a:t>20 dB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hase 3D: A New Era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39760" y="1619280"/>
            <a:ext cx="331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ILA” - The Alligator E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54240" y="2673360"/>
            <a:ext cx="158760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743920" y="2897280"/>
            <a:ext cx="2133720" cy="1371240"/>
            <a:chOff x="2743920" y="2897280"/>
            <a:chExt cx="2133720" cy="1371240"/>
          </a:xfrm>
        </p:grpSpPr>
        <p:grpSp>
          <p:nvGrpSpPr>
            <p:cNvPr id="541" name=""/>
            <p:cNvGrpSpPr/>
            <p:nvPr/>
          </p:nvGrpSpPr>
          <p:grpSpPr>
            <a:xfrm>
              <a:off x="2743920" y="2897280"/>
              <a:ext cx="2133720" cy="1371240"/>
              <a:chOff x="2743920" y="2897280"/>
              <a:chExt cx="2133720" cy="1371240"/>
            </a:xfrm>
          </p:grpSpPr>
          <p:sp>
            <p:nvSpPr>
              <p:cNvPr id="542" name=""/>
              <p:cNvSpPr/>
              <p:nvPr/>
            </p:nvSpPr>
            <p:spPr>
              <a:xfrm>
                <a:off x="2743920" y="2897280"/>
                <a:ext cx="106560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811680" y="2897280"/>
                <a:ext cx="106596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97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9769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3276720" y="3581280"/>
              <a:ext cx="11430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1149480" y="4044960"/>
            <a:ext cx="17398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72720" y="3527280"/>
            <a:ext cx="135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nable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Det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23880" y="4800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286000" y="4267080"/>
            <a:ext cx="304920" cy="381240"/>
            <a:chOff x="2286000" y="4267080"/>
            <a:chExt cx="304920" cy="381240"/>
          </a:xfrm>
        </p:grpSpPr>
        <p:sp>
          <p:nvSpPr>
            <p:cNvPr id="549" name=""/>
            <p:cNvSpPr/>
            <p:nvPr/>
          </p:nvSpPr>
          <p:spPr>
            <a:xfrm flipH="1">
              <a:off x="2286000" y="4267080"/>
              <a:ext cx="76320" cy="381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362320" y="4267080"/>
              <a:ext cx="152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514600" y="4267080"/>
              <a:ext cx="76320" cy="381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447560" y="4267080"/>
            <a:ext cx="228960" cy="381240"/>
            <a:chOff x="1447560" y="4267080"/>
            <a:chExt cx="228960" cy="381240"/>
          </a:xfrm>
        </p:grpSpPr>
        <p:sp>
          <p:nvSpPr>
            <p:cNvPr id="553" name=""/>
            <p:cNvSpPr/>
            <p:nvPr/>
          </p:nvSpPr>
          <p:spPr>
            <a:xfrm>
              <a:off x="1676520" y="4267080"/>
              <a:ext cx="0" cy="381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1447560" y="4267080"/>
              <a:ext cx="228600" cy="1526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7920" y="4267080"/>
              <a:ext cx="0" cy="3049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1447920" y="4419360"/>
              <a:ext cx="228600" cy="1522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873760" y="2749680"/>
            <a:ext cx="977760" cy="977760"/>
            <a:chOff x="5873760" y="2749680"/>
            <a:chExt cx="977760" cy="977760"/>
          </a:xfrm>
        </p:grpSpPr>
        <p:sp>
          <p:nvSpPr>
            <p:cNvPr id="558" name=""/>
            <p:cNvSpPr/>
            <p:nvPr/>
          </p:nvSpPr>
          <p:spPr>
            <a:xfrm>
              <a:off x="5873760" y="274968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56000" y="2970360"/>
              <a:ext cx="451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2438280" y="4800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09880" y="38098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4771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54160" y="2384280"/>
            <a:ext cx="190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nable Notch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38280" y="533412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38080" y="3200400"/>
            <a:ext cx="2210040" cy="0"/>
          </a:xfrm>
          <a:prstGeom prst="line">
            <a:avLst/>
          </a:prstGeom>
          <a:ln w="507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38280" y="3200400"/>
            <a:ext cx="0" cy="838080"/>
          </a:xfrm>
          <a:prstGeom prst="line">
            <a:avLst/>
          </a:prstGeom>
          <a:ln w="507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0" y="3200400"/>
            <a:ext cx="1447920" cy="0"/>
          </a:xfrm>
          <a:prstGeom prst="line">
            <a:avLst/>
          </a:prstGeom>
          <a:ln w="507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3200400"/>
            <a:ext cx="1218960" cy="0"/>
          </a:xfrm>
          <a:prstGeom prst="line">
            <a:avLst/>
          </a:prstGeom>
          <a:ln w="507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54680" y="6270480"/>
            <a:ext cx="125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/From I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68840" y="4044960"/>
            <a:ext cx="17398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6102360" y="4121280"/>
            <a:ext cx="596880" cy="596880"/>
            <a:chOff x="6102360" y="4121280"/>
            <a:chExt cx="596880" cy="596880"/>
          </a:xfrm>
        </p:grpSpPr>
        <p:sp>
          <p:nvSpPr>
            <p:cNvPr id="573" name=""/>
            <p:cNvSpPr/>
            <p:nvPr/>
          </p:nvSpPr>
          <p:spPr>
            <a:xfrm>
              <a:off x="6102360" y="4121280"/>
              <a:ext cx="596880" cy="59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6249960" y="4343760"/>
              <a:ext cx="380880" cy="153360"/>
              <a:chOff x="6249960" y="4343760"/>
              <a:chExt cx="380880" cy="153360"/>
            </a:xfrm>
          </p:grpSpPr>
          <p:sp>
            <p:nvSpPr>
              <p:cNvPr id="575" name=""/>
              <p:cNvSpPr/>
              <p:nvPr/>
            </p:nvSpPr>
            <p:spPr>
              <a:xfrm>
                <a:off x="6440400" y="4343760"/>
                <a:ext cx="19044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438600" y="4343760"/>
                <a:ext cx="19044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249960" y="4344840"/>
                <a:ext cx="19044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427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42710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249960" y="4344840"/>
                <a:ext cx="19008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20" y="1"/>
                    </a:moveTo>
                    <a:arcTo wR="10800" hR="10800" stAng="-5457290" swAng="54572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20" y="1"/>
                    </a:moveTo>
                    <a:arcTo wR="10800" hR="10800" stAng="-5457290" swAng="5457290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5087880" y="375588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hes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20080" y="2460600"/>
            <a:ext cx="1349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IF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10.7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BW = 512 k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70040" y="2536920"/>
            <a:ext cx="975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IF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10.7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2361960" y="5562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498040" y="55846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1447560" y="5562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83640" y="55846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hase 3D: A New Era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ee Axis Stabiliz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action Wheel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ployed solar array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at Pip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 Jet Thruster... The cure for Cha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PS Receiv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cation, Time and Frequency Referenc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titude Determin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de in Florida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91080" y="1619280"/>
            <a:ext cx="180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ther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ey, What about...??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DSAT 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To the Moon Alice"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ACEST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nna make a bet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S-A and SOLAR SAI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extra-terrestrials..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AM RADIO TO MAR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Mars Global Surveyor" in late 199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Jet Propulsion Laboratory in Pasadena, California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placement for the ill-fated "Mars Observer"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y experiments carried on the spacecraf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3 watt CW beacon on 437.100 MHz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SCAR satellite groundstation capabl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ile enroute to Mar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W DO I FIND OUT MORE ??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 Amateurs Handbook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ellite Experimenters Handbook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lumns in QST, CQ, QEX, etc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ttp://www.amsa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in AMS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MSAT Journal Subscrip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MSAT News Service on Packet and Inter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MSAT Nets - Tuesday 9:00 PM Eastern on 3840 kH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uston Area AMSAT Net rebroadcast locally by AJ1R/KD4KSI Rptr Syste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 Area Coordinato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eve - WB9OEP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d many, many more!!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'S UP ??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og Satellit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MSAT OSCAR 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ld Faithful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MSAT OSCAR 1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"Cadillac" of OSCAR'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 Sputnik 10/1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wo meters up and 10M dow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 Sputnik 12/1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s A and K are alive and well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 Sputnik 1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s A and K are alive and well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UJI OSCAR 20**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Satellit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SAT OSCAR 1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VE OSCAR 1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BERSAT OSCAR 18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USAT OSCAR 1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oSAT OSCAR 2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ITSAT OSCAR 2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ITSAT OSCAR 2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TAMSAT OSCAR 2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MRAD OSCAR 2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AT OSCAR 2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3th AMSAT-NA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nual Meeting and Space Symposium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ber 6-8, 199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lando, FL. --International Airport Holiday In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3D Updates, Papers and tours of the Integration Fac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rations still available -- Call Martha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’s UP ??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46000" y="2219400"/>
            <a:ext cx="7491600" cy="39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st Ad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-29             (AMSAT-JA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-20 replacement launched Aug. 17, 199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AMSAT2  (AMSAT-XE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teor Sounder launched September 5, 199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riment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oSAT OSCAR 1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ducational and scientific stalwar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oSAT OSCAR 14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ighly experimental PACSA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ned Spacecraf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R Spacestatio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wo meter rigs smuggled into spac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w w/ Repeater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ace AmateurFunk EXperiment (SAFEX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REX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uttle Amateur Radio EXperimen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ce OSCAR 1 in 1959, AMSAT has over 37 years of service to the Amateur Satellite Servi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w do I get there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5640" y="2066760"/>
            <a:ext cx="70786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are you going?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ne, CW, DXing, ragchew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, remote imaging,..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79480" y="5006880"/>
            <a:ext cx="6992640" cy="2320200"/>
            <a:chOff x="879480" y="5006880"/>
            <a:chExt cx="6992640" cy="2320200"/>
          </a:xfrm>
        </p:grpSpPr>
        <p:sp>
          <p:nvSpPr>
            <p:cNvPr id="62" name=""/>
            <p:cNvSpPr/>
            <p:nvPr/>
          </p:nvSpPr>
          <p:spPr>
            <a:xfrm>
              <a:off x="915840" y="5019840"/>
              <a:ext cx="6956280" cy="23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843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8431"/>
                </a:path>
              </a:pathLst>
            </a:custGeom>
            <a:noFill/>
            <a:ln cap="rnd"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79480" y="5006880"/>
              <a:ext cx="6955920" cy="231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5" y="0"/>
                  </a:moveTo>
                  <a:arcTo wR="10800" hR="10800" stAng="-5401568" swAng="5396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5" y="0"/>
                  </a:moveTo>
                  <a:arcTo wR="10800" hR="10800" stAng="-5401568" swAng="5396843"/>
                </a:path>
              </a:pathLst>
            </a:custGeom>
            <a:noFill/>
            <a:ln cap="rnd"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066680" y="5105520"/>
            <a:ext cx="304920" cy="609480"/>
            <a:chOff x="1066680" y="5105520"/>
            <a:chExt cx="304920" cy="609480"/>
          </a:xfrm>
        </p:grpSpPr>
        <p:sp>
          <p:nvSpPr>
            <p:cNvPr id="65" name=""/>
            <p:cNvSpPr/>
            <p:nvPr/>
          </p:nvSpPr>
          <p:spPr>
            <a:xfrm>
              <a:off x="1066680" y="5105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1218960" y="5105520"/>
              <a:ext cx="152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6680" y="5105520"/>
              <a:ext cx="15264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19320" y="51055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391520" y="5105520"/>
            <a:ext cx="304560" cy="609480"/>
            <a:chOff x="7391520" y="5105520"/>
            <a:chExt cx="304560" cy="609480"/>
          </a:xfrm>
        </p:grpSpPr>
        <p:sp>
          <p:nvSpPr>
            <p:cNvPr id="70" name=""/>
            <p:cNvSpPr/>
            <p:nvPr/>
          </p:nvSpPr>
          <p:spPr>
            <a:xfrm>
              <a:off x="7391520" y="51055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543440" y="5105520"/>
              <a:ext cx="152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1520" y="5105520"/>
              <a:ext cx="152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43800" y="51055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447920" y="5029200"/>
            <a:ext cx="1981080" cy="76320"/>
            <a:chOff x="1447920" y="5029200"/>
            <a:chExt cx="1981080" cy="76320"/>
          </a:xfrm>
        </p:grpSpPr>
        <p:sp>
          <p:nvSpPr>
            <p:cNvPr id="75" name=""/>
            <p:cNvSpPr/>
            <p:nvPr/>
          </p:nvSpPr>
          <p:spPr>
            <a:xfrm>
              <a:off x="1447920" y="5105520"/>
              <a:ext cx="55404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1765080" y="5029200"/>
              <a:ext cx="236520" cy="7632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65440" y="5029200"/>
              <a:ext cx="166356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3760" y="5029200"/>
            <a:ext cx="1981080" cy="76320"/>
            <a:chOff x="5333760" y="5029200"/>
            <a:chExt cx="1981080" cy="76320"/>
          </a:xfrm>
        </p:grpSpPr>
        <p:sp>
          <p:nvSpPr>
            <p:cNvPr id="79" name=""/>
            <p:cNvSpPr/>
            <p:nvPr/>
          </p:nvSpPr>
          <p:spPr>
            <a:xfrm flipH="1">
              <a:off x="6760800" y="5105520"/>
              <a:ext cx="55404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761160" y="5029200"/>
              <a:ext cx="236520" cy="7632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333760" y="5029200"/>
              <a:ext cx="166356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219320" y="3428640"/>
            <a:ext cx="2666880" cy="1600200"/>
            <a:chOff x="1219320" y="3428640"/>
            <a:chExt cx="2666880" cy="1600200"/>
          </a:xfrm>
        </p:grpSpPr>
        <p:sp>
          <p:nvSpPr>
            <p:cNvPr id="83" name=""/>
            <p:cNvSpPr/>
            <p:nvPr/>
          </p:nvSpPr>
          <p:spPr>
            <a:xfrm flipV="1">
              <a:off x="1219320" y="4266720"/>
              <a:ext cx="917280" cy="7621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6600" y="4267080"/>
              <a:ext cx="0" cy="3049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136600" y="3428640"/>
              <a:ext cx="1749600" cy="11430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876920" y="3428640"/>
            <a:ext cx="2666880" cy="1600200"/>
            <a:chOff x="4876920" y="3428640"/>
            <a:chExt cx="2666880" cy="1600200"/>
          </a:xfrm>
        </p:grpSpPr>
        <p:sp>
          <p:nvSpPr>
            <p:cNvPr id="87" name=""/>
            <p:cNvSpPr/>
            <p:nvPr/>
          </p:nvSpPr>
          <p:spPr>
            <a:xfrm flipH="1" flipV="1">
              <a:off x="6627960" y="4266720"/>
              <a:ext cx="915840" cy="7621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27960" y="4267080"/>
              <a:ext cx="0" cy="3049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4876920" y="3428640"/>
              <a:ext cx="1751040" cy="11430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952800" y="3000240"/>
            <a:ext cx="870120" cy="765360"/>
            <a:chOff x="3952800" y="3000240"/>
            <a:chExt cx="870120" cy="765360"/>
          </a:xfrm>
        </p:grpSpPr>
        <p:grpSp>
          <p:nvGrpSpPr>
            <p:cNvPr id="91" name=""/>
            <p:cNvGrpSpPr/>
            <p:nvPr/>
          </p:nvGrpSpPr>
          <p:grpSpPr>
            <a:xfrm>
              <a:off x="3960720" y="3259080"/>
              <a:ext cx="862200" cy="473040"/>
              <a:chOff x="3960720" y="3259080"/>
              <a:chExt cx="862200" cy="47304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3970440" y="3262320"/>
                <a:ext cx="849240" cy="466560"/>
              </a:xfrm>
              <a:prstGeom prst="line">
                <a:avLst/>
              </a:prstGeom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960720" y="3259080"/>
                <a:ext cx="862200" cy="47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3952800" y="3000240"/>
              <a:ext cx="655560" cy="474840"/>
              <a:chOff x="3952800" y="3000240"/>
              <a:chExt cx="655560" cy="47484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952800" y="3000240"/>
                <a:ext cx="655560" cy="474840"/>
                <a:chOff x="3952800" y="3000240"/>
                <a:chExt cx="655560" cy="4748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952800" y="3000240"/>
                  <a:ext cx="517680" cy="474840"/>
                </a:xfrm>
                <a:custGeom>
                  <a:avLst/>
                  <a:gdLst/>
                  <a:ahLst/>
                  <a:rect l="l" t="t" r="r" b="b"/>
                  <a:pathLst>
                    <a:path w="326" h="299">
                      <a:moveTo>
                        <a:pt x="0" y="140"/>
                      </a:moveTo>
                      <a:lnTo>
                        <a:pt x="235" y="0"/>
                      </a:lnTo>
                      <a:lnTo>
                        <a:pt x="325" y="158"/>
                      </a:lnTo>
                      <a:lnTo>
                        <a:pt x="92" y="298"/>
                      </a:lnTo>
                      <a:lnTo>
                        <a:pt x="0" y="140"/>
                      </a:lnTo>
                    </a:path>
                  </a:pathLst>
                </a:custGeom>
                <a:solidFill>
                  <a:srgbClr val="c0e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325760" y="3002040"/>
                  <a:ext cx="282600" cy="282600"/>
                </a:xfrm>
                <a:custGeom>
                  <a:avLst/>
                  <a:gdLst/>
                  <a:ahLst/>
                  <a:rect l="l" t="t" r="r" b="b"/>
                  <a:pathLst>
                    <a:path w="178" h="178">
                      <a:moveTo>
                        <a:pt x="0" y="0"/>
                      </a:moveTo>
                      <a:lnTo>
                        <a:pt x="130" y="92"/>
                      </a:lnTo>
                      <a:lnTo>
                        <a:pt x="177" y="177"/>
                      </a:lnTo>
                      <a:lnTo>
                        <a:pt x="90" y="15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098960" y="3251160"/>
                  <a:ext cx="506520" cy="223920"/>
                </a:xfrm>
                <a:custGeom>
                  <a:avLst/>
                  <a:gdLst/>
                  <a:ahLst/>
                  <a:rect l="l" t="t" r="r" b="b"/>
                  <a:pathLst>
                    <a:path w="319" h="141">
                      <a:moveTo>
                        <a:pt x="0" y="140"/>
                      </a:moveTo>
                      <a:lnTo>
                        <a:pt x="233" y="0"/>
                      </a:lnTo>
                      <a:lnTo>
                        <a:pt x="318" y="18"/>
                      </a:lnTo>
                      <a:lnTo>
                        <a:pt x="141" y="115"/>
                      </a:lnTo>
                      <a:lnTo>
                        <a:pt x="0" y="14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064040" y="3110040"/>
                <a:ext cx="268200" cy="204840"/>
                <a:chOff x="4064040" y="3110040"/>
                <a:chExt cx="268200" cy="2048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064040" y="3191040"/>
                  <a:ext cx="119160" cy="123840"/>
                </a:xfrm>
                <a:prstGeom prst="ellipse">
                  <a:avLst/>
                </a:prstGeom>
                <a:solidFill>
                  <a:srgbClr val="408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211640" y="3110040"/>
                  <a:ext cx="120600" cy="123840"/>
                </a:xfrm>
                <a:prstGeom prst="ellipse">
                  <a:avLst/>
                </a:prstGeom>
                <a:solidFill>
                  <a:srgbClr val="408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4186080" y="3324240"/>
              <a:ext cx="250920" cy="441360"/>
            </a:xfrm>
            <a:custGeom>
              <a:avLst/>
              <a:gdLst/>
              <a:ahLst/>
              <a:rect l="l" t="t" r="r" b="b"/>
              <a:pathLst>
                <a:path w="158" h="278">
                  <a:moveTo>
                    <a:pt x="55" y="0"/>
                  </a:moveTo>
                  <a:lnTo>
                    <a:pt x="157" y="0"/>
                  </a:lnTo>
                  <a:lnTo>
                    <a:pt x="136" y="39"/>
                  </a:lnTo>
                  <a:lnTo>
                    <a:pt x="125" y="75"/>
                  </a:lnTo>
                  <a:lnTo>
                    <a:pt x="114" y="120"/>
                  </a:lnTo>
                  <a:lnTo>
                    <a:pt x="111" y="149"/>
                  </a:lnTo>
                  <a:lnTo>
                    <a:pt x="110" y="186"/>
                  </a:lnTo>
                  <a:lnTo>
                    <a:pt x="111" y="208"/>
                  </a:lnTo>
                  <a:lnTo>
                    <a:pt x="113" y="234"/>
                  </a:lnTo>
                  <a:lnTo>
                    <a:pt x="116" y="254"/>
                  </a:lnTo>
                  <a:lnTo>
                    <a:pt x="120" y="276"/>
                  </a:lnTo>
                  <a:lnTo>
                    <a:pt x="8" y="277"/>
                  </a:lnTo>
                  <a:lnTo>
                    <a:pt x="5" y="259"/>
                  </a:lnTo>
                  <a:lnTo>
                    <a:pt x="1" y="237"/>
                  </a:lnTo>
                  <a:lnTo>
                    <a:pt x="1" y="215"/>
                  </a:lnTo>
                  <a:lnTo>
                    <a:pt x="0" y="192"/>
                  </a:lnTo>
                  <a:lnTo>
                    <a:pt x="1" y="171"/>
                  </a:lnTo>
                  <a:lnTo>
                    <a:pt x="2" y="153"/>
                  </a:lnTo>
                  <a:lnTo>
                    <a:pt x="5" y="131"/>
                  </a:lnTo>
                  <a:lnTo>
                    <a:pt x="10" y="110"/>
                  </a:lnTo>
                  <a:lnTo>
                    <a:pt x="15" y="88"/>
                  </a:lnTo>
                  <a:lnTo>
                    <a:pt x="23" y="61"/>
                  </a:lnTo>
                  <a:lnTo>
                    <a:pt x="33" y="41"/>
                  </a:lnTo>
                  <a:lnTo>
                    <a:pt x="43" y="18"/>
                  </a:lnTo>
                  <a:lnTo>
                    <a:pt x="55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89400" y="3160800"/>
              <a:ext cx="420840" cy="444240"/>
            </a:xfrm>
            <a:custGeom>
              <a:avLst/>
              <a:gdLst/>
              <a:ahLst/>
              <a:rect l="l" t="t" r="r" b="b"/>
              <a:pathLst>
                <a:path w="265" h="280">
                  <a:moveTo>
                    <a:pt x="0" y="247"/>
                  </a:moveTo>
                  <a:lnTo>
                    <a:pt x="5" y="227"/>
                  </a:lnTo>
                  <a:lnTo>
                    <a:pt x="14" y="198"/>
                  </a:lnTo>
                  <a:lnTo>
                    <a:pt x="23" y="174"/>
                  </a:lnTo>
                  <a:lnTo>
                    <a:pt x="36" y="146"/>
                  </a:lnTo>
                  <a:lnTo>
                    <a:pt x="50" y="123"/>
                  </a:lnTo>
                  <a:lnTo>
                    <a:pt x="64" y="102"/>
                  </a:lnTo>
                  <a:lnTo>
                    <a:pt x="79" y="82"/>
                  </a:lnTo>
                  <a:lnTo>
                    <a:pt x="99" y="61"/>
                  </a:lnTo>
                  <a:lnTo>
                    <a:pt x="112" y="49"/>
                  </a:lnTo>
                  <a:lnTo>
                    <a:pt x="124" y="38"/>
                  </a:lnTo>
                  <a:lnTo>
                    <a:pt x="147" y="20"/>
                  </a:lnTo>
                  <a:lnTo>
                    <a:pt x="163" y="9"/>
                  </a:lnTo>
                  <a:lnTo>
                    <a:pt x="179" y="0"/>
                  </a:lnTo>
                  <a:lnTo>
                    <a:pt x="264" y="32"/>
                  </a:lnTo>
                  <a:lnTo>
                    <a:pt x="238" y="49"/>
                  </a:lnTo>
                  <a:lnTo>
                    <a:pt x="221" y="61"/>
                  </a:lnTo>
                  <a:lnTo>
                    <a:pt x="203" y="75"/>
                  </a:lnTo>
                  <a:lnTo>
                    <a:pt x="188" y="90"/>
                  </a:lnTo>
                  <a:lnTo>
                    <a:pt x="175" y="103"/>
                  </a:lnTo>
                  <a:lnTo>
                    <a:pt x="163" y="118"/>
                  </a:lnTo>
                  <a:lnTo>
                    <a:pt x="149" y="137"/>
                  </a:lnTo>
                  <a:lnTo>
                    <a:pt x="137" y="156"/>
                  </a:lnTo>
                  <a:lnTo>
                    <a:pt x="127" y="173"/>
                  </a:lnTo>
                  <a:lnTo>
                    <a:pt x="115" y="196"/>
                  </a:lnTo>
                  <a:lnTo>
                    <a:pt x="104" y="219"/>
                  </a:lnTo>
                  <a:lnTo>
                    <a:pt x="98" y="237"/>
                  </a:lnTo>
                  <a:lnTo>
                    <a:pt x="91" y="259"/>
                  </a:lnTo>
                  <a:lnTo>
                    <a:pt x="87" y="279"/>
                  </a:lnTo>
                  <a:lnTo>
                    <a:pt x="0" y="24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880000" y="5462640"/>
            <a:ext cx="30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The “Repeater in the Sk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Repeater in the Sky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86200" y="4146480"/>
            <a:ext cx="6761880" cy="3121920"/>
            <a:chOff x="1186200" y="4146480"/>
            <a:chExt cx="6761880" cy="3121920"/>
          </a:xfrm>
        </p:grpSpPr>
        <p:sp>
          <p:nvSpPr>
            <p:cNvPr id="107" name=""/>
            <p:cNvSpPr/>
            <p:nvPr/>
          </p:nvSpPr>
          <p:spPr>
            <a:xfrm>
              <a:off x="1220760" y="4164120"/>
              <a:ext cx="6727320" cy="310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837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8378"/>
                </a:path>
              </a:pathLst>
            </a:custGeom>
            <a:noFill/>
            <a:ln cap="rnd"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86200" y="4146480"/>
              <a:ext cx="6726960" cy="310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5" y="0"/>
                  </a:moveTo>
                  <a:arcTo wR="10800" hR="10800" stAng="-5401622" swAng="54016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5" y="0"/>
                  </a:moveTo>
                  <a:arcTo wR="10800" hR="10800" stAng="-5401622" swAng="5401622"/>
                </a:path>
              </a:pathLst>
            </a:custGeom>
            <a:noFill/>
            <a:ln cap="rnd"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366920" y="4280040"/>
            <a:ext cx="295200" cy="819000"/>
            <a:chOff x="1366920" y="4280040"/>
            <a:chExt cx="295200" cy="819000"/>
          </a:xfrm>
        </p:grpSpPr>
        <p:sp>
          <p:nvSpPr>
            <p:cNvPr id="110" name=""/>
            <p:cNvSpPr/>
            <p:nvPr/>
          </p:nvSpPr>
          <p:spPr>
            <a:xfrm>
              <a:off x="1366920" y="4280040"/>
              <a:ext cx="29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14520" y="4280040"/>
              <a:ext cx="14760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66920" y="4280040"/>
              <a:ext cx="14760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14520" y="4280040"/>
              <a:ext cx="0" cy="81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481880" y="4280040"/>
            <a:ext cx="295200" cy="819000"/>
            <a:chOff x="7481880" y="4280040"/>
            <a:chExt cx="295200" cy="819000"/>
          </a:xfrm>
        </p:grpSpPr>
        <p:sp>
          <p:nvSpPr>
            <p:cNvPr id="115" name=""/>
            <p:cNvSpPr/>
            <p:nvPr/>
          </p:nvSpPr>
          <p:spPr>
            <a:xfrm>
              <a:off x="7481880" y="4280040"/>
              <a:ext cx="29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629480" y="4280040"/>
              <a:ext cx="14760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81880" y="4280040"/>
              <a:ext cx="14760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29480" y="4280040"/>
              <a:ext cx="0" cy="81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752480" y="3276360"/>
            <a:ext cx="2819520" cy="1143000"/>
            <a:chOff x="1752480" y="3276360"/>
            <a:chExt cx="2819520" cy="1143000"/>
          </a:xfrm>
        </p:grpSpPr>
        <p:sp>
          <p:nvSpPr>
            <p:cNvPr id="120" name=""/>
            <p:cNvSpPr/>
            <p:nvPr/>
          </p:nvSpPr>
          <p:spPr>
            <a:xfrm flipV="1">
              <a:off x="1752480" y="4038120"/>
              <a:ext cx="1017720" cy="38124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572920" y="3962160"/>
              <a:ext cx="196920" cy="7596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614680" y="3276360"/>
              <a:ext cx="1957320" cy="68580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514520" y="2023560"/>
            <a:ext cx="2577960" cy="2153160"/>
            <a:chOff x="1514520" y="2023560"/>
            <a:chExt cx="2577960" cy="2153160"/>
          </a:xfrm>
        </p:grpSpPr>
        <p:sp>
          <p:nvSpPr>
            <p:cNvPr id="124" name=""/>
            <p:cNvSpPr/>
            <p:nvPr/>
          </p:nvSpPr>
          <p:spPr>
            <a:xfrm flipV="1">
              <a:off x="1514520" y="3152880"/>
              <a:ext cx="887400" cy="10238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01920" y="3152880"/>
              <a:ext cx="0" cy="4093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401920" y="2023560"/>
              <a:ext cx="1690560" cy="15382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051160" y="2023560"/>
            <a:ext cx="2578320" cy="2153160"/>
            <a:chOff x="5051160" y="2023560"/>
            <a:chExt cx="2578320" cy="2153160"/>
          </a:xfrm>
        </p:grpSpPr>
        <p:sp>
          <p:nvSpPr>
            <p:cNvPr id="128" name=""/>
            <p:cNvSpPr/>
            <p:nvPr/>
          </p:nvSpPr>
          <p:spPr>
            <a:xfrm flipH="1" flipV="1">
              <a:off x="6743880" y="3152880"/>
              <a:ext cx="885600" cy="10238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43880" y="3152880"/>
              <a:ext cx="0" cy="4093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5051160" y="2023560"/>
              <a:ext cx="1692360" cy="15382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157640" y="1447920"/>
            <a:ext cx="841320" cy="1028520"/>
            <a:chOff x="4157640" y="1447920"/>
            <a:chExt cx="841320" cy="1028520"/>
          </a:xfrm>
        </p:grpSpPr>
        <p:grpSp>
          <p:nvGrpSpPr>
            <p:cNvPr id="132" name=""/>
            <p:cNvGrpSpPr/>
            <p:nvPr/>
          </p:nvGrpSpPr>
          <p:grpSpPr>
            <a:xfrm>
              <a:off x="4165560" y="1797120"/>
              <a:ext cx="833400" cy="635040"/>
              <a:chOff x="4165560" y="1797120"/>
              <a:chExt cx="833400" cy="635040"/>
            </a:xfrm>
          </p:grpSpPr>
          <p:sp>
            <p:nvSpPr>
              <p:cNvPr id="133" name=""/>
              <p:cNvSpPr/>
              <p:nvPr/>
            </p:nvSpPr>
            <p:spPr>
              <a:xfrm flipV="1">
                <a:off x="4175280" y="1800000"/>
                <a:ext cx="820440" cy="626760"/>
              </a:xfrm>
              <a:prstGeom prst="line">
                <a:avLst/>
              </a:prstGeom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165560" y="1797120"/>
                <a:ext cx="833400" cy="63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157640" y="1447920"/>
              <a:ext cx="633600" cy="637920"/>
              <a:chOff x="4157640" y="1447920"/>
              <a:chExt cx="633600" cy="6379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4157640" y="1447920"/>
                <a:ext cx="633600" cy="637920"/>
                <a:chOff x="4157640" y="1447920"/>
                <a:chExt cx="633600" cy="6379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157640" y="1447920"/>
                  <a:ext cx="500040" cy="637920"/>
                </a:xfrm>
                <a:custGeom>
                  <a:avLst/>
                  <a:gdLst/>
                  <a:ahLst/>
                  <a:rect l="l" t="t" r="r" b="b"/>
                  <a:pathLst>
                    <a:path w="315" h="402">
                      <a:moveTo>
                        <a:pt x="0" y="188"/>
                      </a:moveTo>
                      <a:lnTo>
                        <a:pt x="227" y="0"/>
                      </a:lnTo>
                      <a:lnTo>
                        <a:pt x="314" y="213"/>
                      </a:lnTo>
                      <a:lnTo>
                        <a:pt x="89" y="401"/>
                      </a:lnTo>
                      <a:lnTo>
                        <a:pt x="0" y="188"/>
                      </a:lnTo>
                    </a:path>
                  </a:pathLst>
                </a:custGeom>
                <a:solidFill>
                  <a:srgbClr val="c0e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518000" y="1449360"/>
                  <a:ext cx="273240" cy="380880"/>
                </a:xfrm>
                <a:custGeom>
                  <a:avLst/>
                  <a:gdLst/>
                  <a:ahLst/>
                  <a:rect l="l" t="t" r="r" b="b"/>
                  <a:pathLst>
                    <a:path w="172" h="240">
                      <a:moveTo>
                        <a:pt x="0" y="0"/>
                      </a:moveTo>
                      <a:lnTo>
                        <a:pt x="126" y="124"/>
                      </a:lnTo>
                      <a:lnTo>
                        <a:pt x="171" y="239"/>
                      </a:lnTo>
                      <a:lnTo>
                        <a:pt x="87" y="2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299120" y="1785960"/>
                  <a:ext cx="488880" cy="299880"/>
                </a:xfrm>
                <a:custGeom>
                  <a:avLst/>
                  <a:gdLst/>
                  <a:ahLst/>
                  <a:rect l="l" t="t" r="r" b="b"/>
                  <a:pathLst>
                    <a:path w="308" h="189">
                      <a:moveTo>
                        <a:pt x="0" y="188"/>
                      </a:moveTo>
                      <a:lnTo>
                        <a:pt x="225" y="0"/>
                      </a:lnTo>
                      <a:lnTo>
                        <a:pt x="307" y="24"/>
                      </a:lnTo>
                      <a:lnTo>
                        <a:pt x="136" y="154"/>
                      </a:lnTo>
                      <a:lnTo>
                        <a:pt x="0" y="188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264200" y="1592280"/>
                <a:ext cx="260280" cy="280800"/>
                <a:chOff x="4264200" y="1592280"/>
                <a:chExt cx="260280" cy="2808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64200" y="1701720"/>
                  <a:ext cx="115560" cy="171360"/>
                </a:xfrm>
                <a:prstGeom prst="ellipse">
                  <a:avLst/>
                </a:prstGeom>
                <a:solidFill>
                  <a:srgbClr val="408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406760" y="1592280"/>
                  <a:ext cx="117720" cy="171360"/>
                </a:xfrm>
                <a:prstGeom prst="ellipse">
                  <a:avLst/>
                </a:prstGeom>
                <a:solidFill>
                  <a:srgbClr val="408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4383000" y="1882800"/>
              <a:ext cx="243000" cy="593640"/>
            </a:xfrm>
            <a:custGeom>
              <a:avLst/>
              <a:gdLst/>
              <a:ahLst/>
              <a:rect l="l" t="t" r="r" b="b"/>
              <a:pathLst>
                <a:path w="153" h="374">
                  <a:moveTo>
                    <a:pt x="53" y="0"/>
                  </a:moveTo>
                  <a:lnTo>
                    <a:pt x="152" y="0"/>
                  </a:lnTo>
                  <a:lnTo>
                    <a:pt x="132" y="52"/>
                  </a:lnTo>
                  <a:lnTo>
                    <a:pt x="121" y="101"/>
                  </a:lnTo>
                  <a:lnTo>
                    <a:pt x="111" y="161"/>
                  </a:lnTo>
                  <a:lnTo>
                    <a:pt x="107" y="200"/>
                  </a:lnTo>
                  <a:lnTo>
                    <a:pt x="107" y="250"/>
                  </a:lnTo>
                  <a:lnTo>
                    <a:pt x="107" y="280"/>
                  </a:lnTo>
                  <a:lnTo>
                    <a:pt x="109" y="315"/>
                  </a:lnTo>
                  <a:lnTo>
                    <a:pt x="112" y="342"/>
                  </a:lnTo>
                  <a:lnTo>
                    <a:pt x="117" y="372"/>
                  </a:lnTo>
                  <a:lnTo>
                    <a:pt x="8" y="373"/>
                  </a:lnTo>
                  <a:lnTo>
                    <a:pt x="5" y="349"/>
                  </a:lnTo>
                  <a:lnTo>
                    <a:pt x="1" y="320"/>
                  </a:lnTo>
                  <a:lnTo>
                    <a:pt x="1" y="289"/>
                  </a:lnTo>
                  <a:lnTo>
                    <a:pt x="0" y="258"/>
                  </a:lnTo>
                  <a:lnTo>
                    <a:pt x="1" y="230"/>
                  </a:lnTo>
                  <a:lnTo>
                    <a:pt x="2" y="206"/>
                  </a:lnTo>
                  <a:lnTo>
                    <a:pt x="5" y="177"/>
                  </a:lnTo>
                  <a:lnTo>
                    <a:pt x="9" y="148"/>
                  </a:lnTo>
                  <a:lnTo>
                    <a:pt x="15" y="119"/>
                  </a:lnTo>
                  <a:lnTo>
                    <a:pt x="23" y="82"/>
                  </a:lnTo>
                  <a:lnTo>
                    <a:pt x="32" y="55"/>
                  </a:lnTo>
                  <a:lnTo>
                    <a:pt x="42" y="24"/>
                  </a:lnTo>
                  <a:lnTo>
                    <a:pt x="53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83080" y="1663560"/>
              <a:ext cx="406440" cy="596880"/>
            </a:xfrm>
            <a:custGeom>
              <a:avLst/>
              <a:gdLst/>
              <a:ahLst/>
              <a:rect l="l" t="t" r="r" b="b"/>
              <a:pathLst>
                <a:path w="256" h="376">
                  <a:moveTo>
                    <a:pt x="0" y="332"/>
                  </a:moveTo>
                  <a:lnTo>
                    <a:pt x="5" y="305"/>
                  </a:lnTo>
                  <a:lnTo>
                    <a:pt x="13" y="267"/>
                  </a:lnTo>
                  <a:lnTo>
                    <a:pt x="23" y="234"/>
                  </a:lnTo>
                  <a:lnTo>
                    <a:pt x="35" y="196"/>
                  </a:lnTo>
                  <a:lnTo>
                    <a:pt x="48" y="165"/>
                  </a:lnTo>
                  <a:lnTo>
                    <a:pt x="62" y="137"/>
                  </a:lnTo>
                  <a:lnTo>
                    <a:pt x="76" y="111"/>
                  </a:lnTo>
                  <a:lnTo>
                    <a:pt x="96" y="82"/>
                  </a:lnTo>
                  <a:lnTo>
                    <a:pt x="108" y="65"/>
                  </a:lnTo>
                  <a:lnTo>
                    <a:pt x="120" y="51"/>
                  </a:lnTo>
                  <a:lnTo>
                    <a:pt x="142" y="27"/>
                  </a:lnTo>
                  <a:lnTo>
                    <a:pt x="158" y="12"/>
                  </a:lnTo>
                  <a:lnTo>
                    <a:pt x="173" y="0"/>
                  </a:lnTo>
                  <a:lnTo>
                    <a:pt x="255" y="43"/>
                  </a:lnTo>
                  <a:lnTo>
                    <a:pt x="230" y="65"/>
                  </a:lnTo>
                  <a:lnTo>
                    <a:pt x="213" y="82"/>
                  </a:lnTo>
                  <a:lnTo>
                    <a:pt x="196" y="101"/>
                  </a:lnTo>
                  <a:lnTo>
                    <a:pt x="182" y="121"/>
                  </a:lnTo>
                  <a:lnTo>
                    <a:pt x="169" y="139"/>
                  </a:lnTo>
                  <a:lnTo>
                    <a:pt x="158" y="158"/>
                  </a:lnTo>
                  <a:lnTo>
                    <a:pt x="144" y="184"/>
                  </a:lnTo>
                  <a:lnTo>
                    <a:pt x="132" y="209"/>
                  </a:lnTo>
                  <a:lnTo>
                    <a:pt x="122" y="232"/>
                  </a:lnTo>
                  <a:lnTo>
                    <a:pt x="111" y="263"/>
                  </a:lnTo>
                  <a:lnTo>
                    <a:pt x="101" y="295"/>
                  </a:lnTo>
                  <a:lnTo>
                    <a:pt x="94" y="318"/>
                  </a:lnTo>
                  <a:lnTo>
                    <a:pt x="88" y="348"/>
                  </a:lnTo>
                  <a:lnTo>
                    <a:pt x="84" y="375"/>
                  </a:lnTo>
                  <a:lnTo>
                    <a:pt x="0" y="33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874800" y="2774880"/>
            <a:ext cx="7702200" cy="3121920"/>
            <a:chOff x="874800" y="2774880"/>
            <a:chExt cx="7702200" cy="3121920"/>
          </a:xfrm>
        </p:grpSpPr>
        <p:grpSp>
          <p:nvGrpSpPr>
            <p:cNvPr id="146" name=""/>
            <p:cNvGrpSpPr/>
            <p:nvPr/>
          </p:nvGrpSpPr>
          <p:grpSpPr>
            <a:xfrm>
              <a:off x="874800" y="2774880"/>
              <a:ext cx="7686360" cy="3121920"/>
              <a:chOff x="874800" y="2774880"/>
              <a:chExt cx="7686360" cy="3121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15840" y="2792520"/>
                <a:ext cx="7645320" cy="310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85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8573"/>
                  </a:path>
                </a:pathLst>
              </a:custGeom>
              <a:noFill/>
              <a:ln cap="rnd" w="2556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74800" y="2774880"/>
                <a:ext cx="7644960" cy="310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6" y="0"/>
                    </a:moveTo>
                    <a:arcTo wR="10800" hR="10800" stAng="-5401427" swAng="5401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6" y="0"/>
                    </a:moveTo>
                    <a:arcTo wR="10800" hR="10800" stAng="-5401427" swAng="5401427"/>
                  </a:path>
                </a:pathLst>
              </a:custGeom>
              <a:noFill/>
              <a:ln cap="rnd" w="2556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874800" y="3232080"/>
              <a:ext cx="7702200" cy="2212560"/>
              <a:chOff x="874800" y="3232080"/>
              <a:chExt cx="7702200" cy="2212560"/>
            </a:xfrm>
          </p:grpSpPr>
          <p:sp>
            <p:nvSpPr>
              <p:cNvPr id="150" name=""/>
              <p:cNvSpPr/>
              <p:nvPr/>
            </p:nvSpPr>
            <p:spPr>
              <a:xfrm>
                <a:off x="915840" y="3244680"/>
                <a:ext cx="7661160" cy="219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85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8575"/>
                  </a:path>
                </a:pathLst>
              </a:custGeom>
              <a:noFill/>
              <a:ln cap="rnd" w="2556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74800" y="3232080"/>
                <a:ext cx="7660800" cy="22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6" y="0"/>
                    </a:moveTo>
                    <a:arcTo wR="10800" hR="10800" stAng="-5401425" swAng="54014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6" y="0"/>
                    </a:moveTo>
                    <a:arcTo wR="10800" hR="10800" stAng="-5401425" swAng="5401425"/>
                  </a:path>
                </a:pathLst>
              </a:custGeom>
              <a:noFill/>
              <a:ln cap="rnd" w="2556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" name=""/>
          <p:cNvGrpSpPr/>
          <p:nvPr/>
        </p:nvGrpSpPr>
        <p:grpSpPr>
          <a:xfrm>
            <a:off x="4648320" y="3276720"/>
            <a:ext cx="2819160" cy="1143000"/>
            <a:chOff x="4648320" y="3276720"/>
            <a:chExt cx="2819160" cy="1143000"/>
          </a:xfrm>
        </p:grpSpPr>
        <p:sp>
          <p:nvSpPr>
            <p:cNvPr id="153" name=""/>
            <p:cNvSpPr/>
            <p:nvPr/>
          </p:nvSpPr>
          <p:spPr>
            <a:xfrm>
              <a:off x="4648320" y="3276720"/>
              <a:ext cx="1017360" cy="3808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468400" y="3657600"/>
              <a:ext cx="196920" cy="7632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10160" y="3733920"/>
              <a:ext cx="1957320" cy="68580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945600" y="2871720"/>
            <a:ext cx="141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97160" y="3451320"/>
            <a:ext cx="1027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w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29560" y="2155680"/>
            <a:ext cx="2254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HF, UHF and Microw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36280" y="5462640"/>
            <a:ext cx="573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ver use a repeater with an 800 mile high anten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21641" t="0" r="21322" b="24463"/>
          <a:stretch/>
        </p:blipFill>
        <p:spPr>
          <a:xfrm>
            <a:off x="2009880" y="1090440"/>
            <a:ext cx="5362560" cy="4615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183840" y="5996160"/>
            <a:ext cx="29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Nice view from up her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fference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31840" y="2371680"/>
            <a:ext cx="3421080" cy="22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tellite Transpond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37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de bandwidth (800 kHz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37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ulti Us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37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oss Ban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37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near (SSB, CW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37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v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37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w Power Transmitt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tellite BB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37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ull Duplex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37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ossban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37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00 bps PSK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37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ttery Pow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37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v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8640" y="2371680"/>
            <a:ext cx="3573360" cy="31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rrestrial Repe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rrow bandwidth (15 k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ngle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n-linear (F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ys in one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igh Power Transm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rrestrial Packet B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ngle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00 bps FM (AFS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mercial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3T03:16:45Z</dcterms:created>
  <dc:creator>Steve Park</dc:creator>
  <dc:description/>
  <dc:language>en-US</dc:language>
  <cp:lastModifiedBy>Barry A. Baines</cp:lastModifiedBy>
  <cp:lastPrinted>1997-01-29T06:18:16Z</cp:lastPrinted>
  <dcterms:modified xsi:type="dcterms:W3CDTF">1999-10-07T01:14:13Z</dcterms:modified>
  <cp:revision>3</cp:revision>
  <dc:subject/>
  <dc:title>No Slide Title</dc:title>
</cp:coreProperties>
</file>